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333C-0CAA-4836-BB42-57593F81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BC0-9281-4A3A-98C4-E7832DE1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D9C-A695-47F4-B709-1B700028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559E-A72A-4B33-A62C-26120D41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8A8-D98F-4E3C-AFD2-B8365FDA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6A3F-DA01-4C94-92A0-15F23396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E4A-9F5B-443B-ADDD-6BBFC793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DCD8-3586-48DD-A25F-A2CAFDEC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5F65-2739-4036-9F75-FD4586FE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1823-5CA4-4B72-8AC9-819D9C71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A43-B17E-4A4D-B992-E4E74E0D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F051-AF63-4610-81E7-2C70E8AB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BD4D-543C-49B6-98E2-D7CFBF5B1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crus</cp:lastModifiedBy>
  <dcterms:modified xsi:type="dcterms:W3CDTF">2006-02-15T18:39:04Z</dcterms:modified>
  <cp:revision>5</cp:revision>
  <dc:subject/>
  <dc:title>Слайд 1</dc:title>
</cp:coreProperties>
</file>