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742A-83E2-4E76-9DED-371991F7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8EBA-605A-42FE-BCB1-524D327A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B9CB-7450-464F-85FD-0B01BA0D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AF01-4AD8-4888-96EF-7D072E35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72AE-3339-4FFA-A4D4-1046F22B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1C8A-97EE-4122-A5BE-DA594457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CF06-AE02-4551-AA26-A7604437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F717-15F1-407A-AD10-60725231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EC5C-6174-4296-BCA7-F6C59C4D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7F69-210F-4BD2-89CB-F6DA28DC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423E-BC7E-4876-B78C-80953C6A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43E2-44F6-4207-B83A-6C170FB9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4035-6DCD-48C8-B5A1-F64255050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5-05-15T05:31:27Z</dcterms:modified>
  <cp:revision>5</cp:revision>
  <dc:subject/>
  <dc:title>Слайд 1</dc:title>
</cp:coreProperties>
</file>