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25184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© 2002 By Default!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6320" y="6645240"/>
            <a:ext cx="4876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A Free sample background from www.powerpointbackgrounds.com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" name="Chain-Links-0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5076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551c7"/>
                </a:solidFill>
                <a:latin typeface="Arial"/>
              </a:rPr>
              <a:t>Slide </a:t>
            </a:r>
            <a:fld id="{72DE2888-5559-492D-A358-8707041CC897}" type="slidenum">
              <a:rPr b="0" lang="en-GB" sz="1400" spc="-1" strike="noStrike">
                <a:solidFill>
                  <a:srgbClr val="3551c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80880" y="304920"/>
            <a:ext cx="4419720" cy="1904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94165"/>
              </a:gs>
              <a:gs pos="100000">
                <a:srgbClr val="67a5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767880" y="691200"/>
            <a:ext cx="3646080" cy="1131480"/>
          </a:xfrm>
          <a:prstGeom prst="rect">
            <a:avLst/>
          </a:prstGeom>
          <a:gradFill rotWithShape="0">
            <a:gsLst>
              <a:gs pos="0">
                <a:srgbClr val="67a5ff"/>
              </a:gs>
              <a:gs pos="100000">
                <a:srgbClr val="33527f"/>
              </a:gs>
            </a:gsLst>
            <a:lin ang="13500000"/>
          </a:gradFill>
          <a:ln w="0">
            <a:noFill/>
          </a:ln>
        </p:spPr>
        <p:txBody>
          <a:bodyPr lIns="36000" rIns="36000" tIns="46800" bIns="46800" anchor="ctr" anchorCtr="1">
            <a:noAutofit/>
          </a:bodyPr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hain Links” </a:t>
            </a: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Title Slide</a:t>
            </a:r>
            <a:endParaRPr b="1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2362320" y="52574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lcome to this presentation 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ww.powerpointbackgrounds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 hope you enjoy 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629400" y="4343400"/>
            <a:ext cx="1981080" cy="685800"/>
          </a:xfrm>
          <a:prstGeom prst="ellipse">
            <a:avLst/>
          </a:prstGeom>
          <a:gradFill rotWithShape="0">
            <a:gsLst>
              <a:gs pos="0">
                <a:srgbClr val="67a5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Add your Logo He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2f4c75"/>
              </a:gs>
              <a:gs pos="50000">
                <a:srgbClr val="67a5ff"/>
              </a:gs>
              <a:gs pos="100000">
                <a:srgbClr val="2f4c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ffff"/>
                </a:solidFill>
                <a:latin typeface="Arial"/>
              </a:rPr>
              <a:t>Bullet List</a:t>
            </a: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use this template, first save this presentation u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ile, Save A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n type in a new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n simply copy each page that you need before you edit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 if you need another bullet l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ick on the “Insert” menu abo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ick on “Duplicate Slid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same applies for the Bars, Pies et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2f4c75"/>
              </a:gs>
              <a:gs pos="50000">
                <a:srgbClr val="67a5ff"/>
              </a:gs>
              <a:gs pos="100000">
                <a:srgbClr val="2f4c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ffff"/>
                </a:solidFill>
                <a:latin typeface="Arial"/>
              </a:rPr>
              <a:t>Bar Graph</a:t>
            </a: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2f4c75"/>
              </a:gs>
              <a:gs pos="50000">
                <a:srgbClr val="67a5ff"/>
              </a:gs>
              <a:gs pos="100000">
                <a:srgbClr val="2f4c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ffff"/>
                </a:solidFill>
                <a:latin typeface="Arial"/>
              </a:rPr>
              <a:t>Line Graph</a:t>
            </a: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2f4c75"/>
              </a:gs>
              <a:gs pos="50000">
                <a:srgbClr val="67a5ff"/>
              </a:gs>
              <a:gs pos="100000">
                <a:srgbClr val="2f4c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ffff"/>
                </a:solidFill>
                <a:latin typeface="Arial"/>
              </a:rPr>
              <a:t>Pie Chart</a:t>
            </a: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46440" y="1981080"/>
            <a:ext cx="0" cy="175284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3048120"/>
            <a:ext cx="5562720" cy="761760"/>
          </a:xfrm>
          <a:custGeom>
            <a:avLst/>
            <a:gdLst/>
            <a:ahLst/>
            <a:rect l="l" t="t" r="r" b="b"/>
            <a:pathLst>
              <a:path w="3504" h="480">
                <a:moveTo>
                  <a:pt x="0" y="432"/>
                </a:moveTo>
                <a:lnTo>
                  <a:pt x="0" y="0"/>
                </a:lnTo>
                <a:lnTo>
                  <a:pt x="3504" y="0"/>
                </a:lnTo>
                <a:lnTo>
                  <a:pt x="3504" y="480"/>
                </a:lnTo>
              </a:path>
            </a:pathLst>
          </a:custGeom>
          <a:noFill/>
          <a:ln w="38160">
            <a:solidFill>
              <a:srgbClr val="66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2f4c75"/>
              </a:gs>
              <a:gs pos="50000">
                <a:srgbClr val="67a5ff"/>
              </a:gs>
              <a:gs pos="100000">
                <a:srgbClr val="2f4c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ffff"/>
                </a:solidFill>
                <a:latin typeface="Arial"/>
              </a:rPr>
              <a:t>Diagram</a:t>
            </a: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00320" y="1499040"/>
            <a:ext cx="289260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a92"/>
              </a:gs>
              <a:gs pos="50000">
                <a:srgbClr val="0066ff"/>
              </a:gs>
              <a:gs pos="100000">
                <a:srgbClr val="003a92"/>
              </a:gs>
            </a:gsLst>
            <a:lin ang="5400000"/>
          </a:gradFill>
          <a:ln w="28440">
            <a:solidFill>
              <a:srgbClr val="67a5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nager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omas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01720" y="3404160"/>
            <a:ext cx="205416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a92"/>
              </a:gs>
              <a:gs pos="50000">
                <a:srgbClr val="0066ff"/>
              </a:gs>
              <a:gs pos="100000">
                <a:srgbClr val="003a92"/>
              </a:gs>
            </a:gsLst>
            <a:lin ang="5400000"/>
          </a:gradFill>
          <a:ln w="28440">
            <a:solidFill>
              <a:srgbClr val="67a5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ales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n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367080" y="3404160"/>
            <a:ext cx="235908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a92"/>
              </a:gs>
              <a:gs pos="50000">
                <a:srgbClr val="0066ff"/>
              </a:gs>
              <a:gs pos="100000">
                <a:srgbClr val="003a92"/>
              </a:gs>
            </a:gsLst>
            <a:lin ang="5400000"/>
          </a:gradFill>
          <a:ln w="28440">
            <a:solidFill>
              <a:srgbClr val="67a5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rketing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li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211800" y="3404160"/>
            <a:ext cx="235908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a92"/>
              </a:gs>
              <a:gs pos="50000">
                <a:srgbClr val="0066ff"/>
              </a:gs>
              <a:gs pos="100000">
                <a:srgbClr val="003a92"/>
              </a:gs>
            </a:gsLst>
            <a:lin ang="5400000"/>
          </a:gradFill>
          <a:ln w="28440">
            <a:solidFill>
              <a:srgbClr val="67a5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stributio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itty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2f4c75"/>
              </a:gs>
              <a:gs pos="50000">
                <a:srgbClr val="67a5ff"/>
              </a:gs>
              <a:gs pos="100000">
                <a:srgbClr val="2f4c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11:52:41Z</dcterms:created>
  <dc:creator>TAJ Simmons</dc:creator>
  <dc:description>From
www.powerpointbackgrounds.com
Messages do not appear on the full product.</dc:description>
  <dc:language>en-US</dc:language>
  <cp:lastModifiedBy>TAJ Simmons</cp:lastModifiedBy>
  <dcterms:modified xsi:type="dcterms:W3CDTF">2003-01-14T16:08:11Z</dcterms:modified>
  <cp:revision>44</cp:revision>
  <dc:subject/>
  <dc:title>Free Sample Awesome PowerPoint Background Template</dc:title>
</cp:coreProperties>
</file>