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775451"/>
        <c:axId val="65424248"/>
      </c:barChart>
      <c:catAx>
        <c:axId val="757754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24248"/>
        <c:crosses val="autoZero"/>
        <c:auto val="1"/>
        <c:lblAlgn val="ctr"/>
        <c:lblOffset val="100"/>
        <c:noMultiLvlLbl val="0"/>
      </c:catAx>
      <c:valAx>
        <c:axId val="654242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754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13F7-EBD9-41AA-B1D1-8C8ED8F12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1EC9-2777-4EFD-AC2C-4E0C8379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210B-C803-4023-B261-F94413EA9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7F1B-3872-495E-B2B9-C90CD153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20FD-6F66-4E5A-987B-B5621AEC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F59A-1991-473F-96A5-46554C4A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4A26-C7FE-4EBE-9759-8E83BA38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C8CF-2A0A-480F-BDB7-A2A4D534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36A1-49A4-4397-BB68-B5418BBA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BF76-F586-4538-AC9F-11E27169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2BCF-0C83-4A4D-953D-937C02C2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EAC0-4AEE-4DA4-899D-BDEE8444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8C914-AC00-4ED3-B5D6-4D8425E8F6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