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44673"/>
        <c:axId val="70291841"/>
      </c:barChart>
      <c:catAx>
        <c:axId val="401446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91841"/>
        <c:crosses val="autoZero"/>
        <c:auto val="1"/>
        <c:lblAlgn val="ctr"/>
        <c:lblOffset val="100"/>
        <c:noMultiLvlLbl val="0"/>
      </c:catAx>
      <c:valAx>
        <c:axId val="70291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446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44F-E2B6-4208-9AC7-8108A186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78C1-9D43-4697-9FC7-6752BB73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654-8CBE-421A-9549-E5A50627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32C-70CA-4E3C-AF68-90619BF9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E9A-94FC-4C63-8B5F-A4E155B9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A3D1-9499-4A6E-BD7C-5A706534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079F-D835-4DF5-9FC7-DB6F0A5E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E9E-5D26-47ED-8467-DEF69FC3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FDDB-E8DA-43F4-88DC-5C3838B5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7C6-F87F-426E-9E23-016FE149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889E-8DC0-4537-A803-4DD26372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C08-8D74-441F-8958-3CDB3F86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C3909-4FE5-4658-9BA4-D387F6B7DA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