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53233"/>
        <c:axId val="74479023"/>
      </c:barChart>
      <c:catAx>
        <c:axId val="24353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79023"/>
        <c:crosses val="autoZero"/>
        <c:auto val="1"/>
        <c:lblAlgn val="ctr"/>
        <c:lblOffset val="100"/>
        <c:noMultiLvlLbl val="0"/>
      </c:catAx>
      <c:valAx>
        <c:axId val="74479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53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74E-DB5D-4589-90F4-96F4D114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1BD-6DB0-4998-84DA-16920795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2CC-2712-4F74-8FFE-ED94FAF6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835-DF69-4402-AF9A-EBA99508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0DE-D923-4F50-8F90-1FB6E91D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A5F-E31C-4250-A89C-77C25D54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7EB-AC6F-47E4-8070-9BC48443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E8D-9EBF-4778-970E-CBCBCC33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897-1DE4-4EEE-A6F5-0A8CA0A6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323-23EF-4248-834E-F213A2DA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94B-F8D4-4F35-BEF9-84006493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5B9E-1EED-4699-B530-45A90C9B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ACEB2-2EEF-4CF2-B640-E8B699C879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