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80889"/>
        <c:axId val="9501340"/>
      </c:barChart>
      <c:catAx>
        <c:axId val="11980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1340"/>
        <c:crosses val="autoZero"/>
        <c:auto val="1"/>
        <c:lblAlgn val="ctr"/>
        <c:lblOffset val="100"/>
        <c:noMultiLvlLbl val="0"/>
      </c:catAx>
      <c:valAx>
        <c:axId val="9501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80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1E8-630D-4229-B4CD-FD0C3031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51E-4E16-4E13-AD81-AEBD0123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1A3-4DDA-47F6-996A-8F63659D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524-9EA6-4AD5-8E98-C7CEF54D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9E0-A434-429B-AE47-BB86CAF2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EE7-589E-493B-B95B-85931988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32D-7A4D-4480-AA81-18A1E27B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371-A98A-4E49-B8C9-BBFFFA5D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B27-005E-4122-823D-75D0898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8EB-3422-4AC1-B77A-503D34E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963-74F2-48B7-95CB-DC15A0B6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392-F9D3-4694-AEE0-84FC167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C706A-5225-4EAC-88AB-26AA8F6901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