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365347"/>
        <c:axId val="57318531"/>
      </c:barChart>
      <c:catAx>
        <c:axId val="773653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318531"/>
        <c:crosses val="autoZero"/>
        <c:auto val="1"/>
        <c:lblAlgn val="ctr"/>
        <c:lblOffset val="100"/>
        <c:noMultiLvlLbl val="0"/>
      </c:catAx>
      <c:valAx>
        <c:axId val="573185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3653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8859-9CA1-49EF-8A6B-DAC8A30C5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25F0-D0DE-4818-BC61-3F2BEFA5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3053-3687-4CC6-9FEC-A575BEAFC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1EAE-EF9E-4272-94E1-0D335F43A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8A95-7BFD-42A4-A8FE-8BDA9A2C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625C-05A3-4919-8304-7A6A3E9C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5D99-62A3-4720-A91A-CE728439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D08A-2008-4B13-BB54-5D393720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F129-616E-430B-BB91-28FA8E0D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1F8A-4B8D-4C9F-8147-5A98BA4D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D617-0CCF-448A-ACDF-7ACD8801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C156-B76F-4766-93A5-C22BA431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685A9-56BA-4B18-B00B-DBD5906B06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