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581258"/>
        <c:axId val="54546786"/>
      </c:barChart>
      <c:catAx>
        <c:axId val="85581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46786"/>
        <c:crosses val="autoZero"/>
        <c:auto val="1"/>
        <c:lblAlgn val="ctr"/>
        <c:lblOffset val="100"/>
        <c:noMultiLvlLbl val="0"/>
      </c:catAx>
      <c:valAx>
        <c:axId val="545467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81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2427-6C61-4A31-B0E8-689F9B5B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439-08FF-401F-80AD-6E58EDCC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65D-3585-438A-BEEA-E2CB700A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F4EF-C253-4FBF-89A1-3A510005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1A0F-E949-4A42-90A8-8A13D344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01E7-F6E5-4AFA-A9A6-7D3A0C81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165-519D-4749-9455-44C9F8AC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698-72AD-4E1D-83BD-C2A4FD4B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E570-0897-4A58-A3DD-A7F36680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F436-47CF-454A-BE30-006C2516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793-5301-4132-979E-3FF36C80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3C5-0EAF-41B9-91C0-17741874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071B6-5E69-47A2-9249-7B37B78F69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