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093943"/>
        <c:axId val="74698836"/>
      </c:barChart>
      <c:catAx>
        <c:axId val="440939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98836"/>
        <c:crosses val="autoZero"/>
        <c:auto val="1"/>
        <c:lblAlgn val="ctr"/>
        <c:lblOffset val="100"/>
        <c:noMultiLvlLbl val="0"/>
      </c:catAx>
      <c:valAx>
        <c:axId val="746988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0939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3184-7CB8-4C36-B43F-B59ADB0EB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8BDE-4C23-4E23-96FA-A05CDB98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9C40-F7F2-4E77-8DB3-2D953D627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BDD2-8282-4381-B94B-E0CDADD7D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3F3A-BB9C-4BFE-9BEB-38983E33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A34A-E0BE-4C50-9256-AF05F5CD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311D-FA10-4D50-8705-4D193B9B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0C74-76C2-4C5F-B789-95ED7CB1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6128-5746-476D-86F4-B92370C0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06BF-A0B3-46B0-9EF4-2580C042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5F05-2E26-4F5E-A3D1-6008F91C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B88B-7B7D-4D0D-BDA6-3C7EC0B9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929EA-1582-4BB3-966A-9C6E25BE8A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