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190701"/>
        <c:axId val="93366234"/>
      </c:barChart>
      <c:catAx>
        <c:axId val="381907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66234"/>
        <c:crosses val="autoZero"/>
        <c:auto val="1"/>
        <c:lblAlgn val="ctr"/>
        <c:lblOffset val="100"/>
        <c:noMultiLvlLbl val="0"/>
      </c:catAx>
      <c:valAx>
        <c:axId val="933662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907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902D-64E1-4F94-854E-11A94140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9DC-B287-4ED3-927E-0149ECBE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DEAB-0F33-4FFD-A46A-22253B70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E8D2-D98F-4046-B0CD-F6CD2BC1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B448-597A-4AF9-8899-8815DE75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343-4571-439D-8B1F-FD48D416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D96E-5D81-45D5-9E12-34A46B42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9547-02C4-427D-BF3E-EE72E4F3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D39-5A67-4928-ABDD-624D0534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22A4-0DF3-412C-8477-89C487D9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3676-3B54-4147-92D5-8E6D3B11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BB5-4CAF-4414-A3E7-303135C1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56B10-79B9-4060-94A9-1CF49E199F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