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A5B4F6-DB5F-4F31-AE9D-BA5090B987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F03B95-C97E-42D1-BDB7-934A0211D3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A48F92-59F4-48D2-A32D-063C267405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A01368-F8AB-4851-A9A9-775CB0A8AE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BE1FF21-33F6-425F-A2A1-308276FE010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03F1D4-6E79-44C1-9AB7-EFB430C345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C49EFA-911D-49FF-B5C8-98D9053E64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B6DE64-A2A6-467C-BCB5-432CD727C8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965CE2-68F3-414A-8A0C-5F45EEA6FA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23D3E9-EA71-4B23-AAFB-496DC60EED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F33381-5C01-4FA9-B729-8270E4DEA9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F8417D-D8B2-44BC-AF02-716B1C7EBB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FFB24E-17B1-402A-B78F-F6B42073B2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30ACC6-04D0-40D5-A062-8A87D4B2CE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5307A3-07B3-4738-8D8D-0B2BAC9DF6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3402D1A-4763-4A28-8A58-E9DA52CFC18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A2AB77A-22E8-497D-8665-53D238273A5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F1BE37-8673-4815-A873-57E507230F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9842C6-0163-44F0-8163-3DA0A51F06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7111DB-2CC8-4171-AE7B-6FD9D81993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2CFCB2-28F5-4B16-8BFF-1FA925E780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62B5E1-9B95-4A50-B480-CB6FF6E3F7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26865D-E5C7-45D4-BCCD-AA011040C5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7BAF13-62AC-4FA4-AB39-49615CEDE3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FD7C00-0EB2-4208-A133-9743ED30E4A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249E8E-53BB-4F69-BD39-0B3E5A1A334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AFED4B5-56B4-44A1-A82A-87137C9EA85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6E137DA-9490-43BF-92A6-26ED87C17463}"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BCCEDA-1BA9-4E8B-8AED-C894763450C4}"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0A80E7-DE36-4ACB-9589-96909F9A35EF}"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593DA1-A46B-4334-88FF-1B61ABF161BE}"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E7CF21-36A6-40E0-AEEC-B6D34BE8AB40}"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30887D-641A-407B-A060-7E138EC7BC47}"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FA1AED-C691-4718-AF79-8B1F75B73DA6}"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C7C178-7A60-4648-B283-92DEB4320C5F}"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99AB8B-63CE-441D-8723-B7E731DBD14C}"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44D51B-1932-4AE2-B053-C502D67BCB40}"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B11DF5-2B3C-4B85-86A5-A3AEB9E4A58F}"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49CEDF-3C0C-4906-976E-C39DDC99E8BF}"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BDED81-54F2-4638-8B20-1CC75B21BE1D}"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F7404C-CBC2-405C-9772-E37242B182A6}"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D90BF3-4729-4DD3-8DE3-617AC55A3060}"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793DB5-3D61-46E2-A073-0B94235730E2}"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73E9B5-6068-4E60-869C-74FBAE817E42}"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8DC567-4F31-4C81-A7B9-F29DB423CE69}"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7FB3D0-F559-4093-995B-00A6126659B8}"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5D3EB7-C0D5-49AC-B51B-4FB431CDAA52}"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C7D5DF-9728-46F7-9D5D-01C91B83F57C}"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9D6B09-1BC5-4B4F-B858-EF02599B9A56}"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C471DD-D622-4D20-BE92-823A1285EE32}"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26B4DB-9BA5-4F50-BAFE-E9A299CBEDFD}"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B43C89-540F-423E-AE71-3A685C0DD3AE}"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E200CC-E998-4E37-925C-062F9508749D}"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595842F-A24D-4995-B0C7-3B79F3AC788D}"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C81FF3-DE92-4ED9-98B6-AD1A37B9C59B}"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86DAD7-EAAB-4505-9E8D-8C5CAF71B488}"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63F232-93F6-4EDC-934F-6E2675BC7AFC}"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9779F2-2BCE-4BF3-A5D5-AFD2835269B6}"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5DE9A0-41CC-46E0-8E39-4F6D88BD5BA0}"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BDD65F-65EC-40AB-B7C0-8EE6C4F211B7}"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844044-0079-4B37-938C-12455B09390A}"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8D1779-F495-4F74-B67F-3DBF25A37E8F}"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72912F-9E68-438C-A751-D91F9551E8D8}"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FFEF6A-111C-4182-92B6-FCD74F95A217}"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19BCD2-B984-4C82-A5C2-EDBC4AD7124F}"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92CB04-AE29-4EF3-B69C-6281B1209FBA}"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089902-0793-4B2D-A6A4-9FC1F416883F}"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F1F86D-8D91-48C5-9303-2B8F306FDC56}"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02112E-84D3-4E3F-835B-BA1716F5B60B}"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D81B70-68CD-4E3E-8893-1EFA3950F8E0}"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D9305E-9BB7-40B8-85D4-E803ACCBFB78}"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350679-DF5E-4065-B3BC-BD64DD48D795}"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F6B1E0-84A5-4D88-86CD-5B3C61284A8F}"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95F5A0-7F0D-4210-BFFF-30129C4DDF22}"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E5DC9F5-21CF-4AB3-9D43-F4F012183123}"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378D72-99BE-4F3C-9BCA-126139811CA2}"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79C02B-3804-4574-A151-106CCDCE1DFC}"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5617546-4023-44D7-AE6C-7874F3CAFAEE}"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C9FBD7-5246-4DD3-9D55-7D714DC79406}"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FF2088-FB8A-47D5-8D5A-34D4C6ADA928}"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C2F74D-CC6C-4E1B-9477-B22A9E9A4B03}"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F4E87E-AC62-4DAC-866B-E7632ADEFA6D}"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FE593F-CBB7-44E1-8ED9-E0857AE5A6D1}"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EF06AA-9D49-4DA9-90DB-E35E69D8D9DA}"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CF9CFE-16E6-430A-B63E-B6C792889960}"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EEC145B-FE26-474C-A4DD-318B7D1C3CA3}"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DBAEA2-1D8E-4F18-AA16-7F3D660F2428}"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A2CA4D-1F90-4F85-8E82-9E35E61DF090}"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40965D-62CF-450F-BAA0-2997747CEB13}"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E4B450-303E-45B7-870F-90439E940A70}"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7B48CA-8586-42A6-B433-F2241D7A7C1B}"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4CC52DA-B031-4E54-8783-E7784A4A41C0}"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BA240A-AF20-4E02-832F-F78D329A3BD3}"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CEB990-6539-4583-8E10-3E8B11BF4738}"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D3649A-E7CE-4B62-A1C4-AAF4232C564A}"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C19F5B-4980-4994-8FBA-E76454F4966C}"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5F4D43F-8D5C-4E4F-A6A6-F0D49ABF5D5A}"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625FDF-E1FB-4E47-A06B-1FF177C6CC2F}"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79A570-6D45-4E62-AA2C-B3A36421FEE8}"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007F5F-43EB-47B0-82E7-1F0A28349EF2}"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8318DC-6712-4374-81A7-04254DBE937C}"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D0F05F-B2CE-4D1A-AA1F-15CB3A7EADFE}"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453E56-FFC3-43AC-A451-263A9619974E}"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102A0FF-11A9-4204-87E0-7561D0B56347}"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CFAF5D-66F0-47AE-A85F-36CB867698E9}"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F08FF0-C9FA-4E4F-B4A4-12E2C6AA22A3}"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1E738B-ACA8-4239-8298-FA9463E5E133}"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DAD4B4A-449D-4DF6-BDCB-C10EC4FDCEAC}"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FD6ADB-C08B-434A-8DAF-77ADAEFED1CA}"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8ED76B0-85A9-4F8C-A2ED-74D878D43EFE}"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3F1BB5-E979-4D48-928E-7DB3A8409CA9}"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75FEC1-1251-48B0-BC74-BD4A6AE37F9B}"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D8B35E-CF5B-4694-A755-5E105A8655BB}"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C122D6-6EFB-47C2-B8F1-81FBF7F8D1F1}"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5AD5E9-264A-4F06-BAB3-D1E4B4B77E29}"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CE7716-A1FD-4249-A217-069216DB55C5}"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C83998-64BB-48F3-8980-1256388D4E98}"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917480-D126-4B33-9FA2-5201C2D1FD72}"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5AF9BD-9852-4094-8252-99F5DAD65D48}"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ED2F3C-D23B-4839-83DF-6FF11E087B49}"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0AB689-0577-42CD-83E6-E2E1C9188E09}"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94452C-61A9-40B1-9257-9426B585DE03}"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595B43-1919-4FC1-A4BE-45FBA663BAE7}"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6CC049-0A03-49C6-911B-9E221EFE2CC8}"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C7AA09-A461-4DBE-B091-84EF37169579}"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A7E112D-9C38-4531-8B59-50D13B33B1FA}"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28B2B5-AE4B-47B9-BDA4-CE737A6FD77A}"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B0F976-D5C1-4388-BD60-B99B35CBF30C}"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F3759F-63A6-43FB-AA72-A591F6DCAF53}"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6C5C9F-F711-42D7-85B6-39E0436365CF}"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7B1CAE-F1B5-4CA0-AFF4-677BB5273DF4}"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5C907D-1D91-42A9-9F46-ABC821E1A70D}"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854949-AC2A-4198-BF92-FAF866402E11}"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D8448F-4012-431B-B227-3FCC9EB0333C}"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9D3431-0F46-4297-AE8E-B9C609A971F4}"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098901-6612-432A-869B-7F937D679431}"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A86434-7902-40C6-AAB8-4773ACA14888}"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853E18-1142-4051-A3FD-EE5BA2ADB3E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F585E5-88E1-4992-8454-619E8315A86B}"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8CAADF-D32F-451F-9FF1-9FC64248BA9A}"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8837E3-3B46-4013-83E9-10F1594F0016}"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2999AF-FCDF-4765-AF9E-C9E268A12B5E}"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481001-FDD2-45B9-B1A6-350ECB87FE9B}"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E97982-43C3-4DF6-95B5-1A5AB58BE2A9}"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B4AB58-6CEF-4C13-A752-B7B8BDB4FF55}"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919E74-49A6-4000-BBFA-75FB1DBBFD23}"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604188-0A1F-4D5E-A148-0AC065024965}"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3E8233-91B0-48CB-8D97-C89FADC735DE}"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A32488-E78F-4352-884C-EC654BD6BBCE}"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D07546-FC95-452E-B153-E5CA68C2388D}"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CE8A66-66C7-40E9-AF79-E116002AB075}"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8EA82B-56F5-49FD-B4C8-C82B052F04E0}"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127D23-316B-4766-9189-25E4DF365A2D}"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FB5ED6C-8696-4EDE-8724-0303109DD300}"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7EA942-2C3D-4367-BAE2-B8164D5EEBE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A76936-F303-4FA9-9DEF-D1242563805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821268-D63A-437B-BB8E-E4E74F0C701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C833AF-B8F8-480E-836C-A9E430F0CAB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CF958F-6CAE-4DBE-BB87-42CD6CED7D2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C4854A-D446-4FD6-9BBE-908B0E8D51C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1840309-8609-4866-B86E-5539E70DF29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C18C86-F340-4B0D-9377-1FBAAB4BCA4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11D8EF-F334-48B2-93E7-5DC13A42D11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DD4EF7-A75C-47C8-906C-B0A228C58B4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D92CD4-C14D-4D38-B829-BE7106E50FE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1B67A8-4FAD-4FDB-8B70-4DE958A45E8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C2127D-43CB-442D-ADA3-DDD7E00214C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E818F8-7FC3-4BF7-AB7C-0E91C0D4ABB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78F93C-8063-4F82-A810-DF5117526C1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19E7D4-EEFB-4CF4-A64D-12037D59D09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D4665A-8C49-44B5-9CB5-C39D5C77008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9F05F9-A08F-4D30-90AF-98D79035D4E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D5B034-0CEC-4C50-A60B-ECA12459580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392764-4F9A-4ABD-A232-2E7E9F5EE2B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D10AF0-8A7E-400F-9D15-968BE26AADA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766C79-15A6-4607-B782-08B1B9874D9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F57E97-FB94-45B0-9AB1-9EA63FE0BCB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9405E9-5507-4173-AD8F-60E46FCF82D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10E87B-82BA-42C3-9554-350432E1B60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1B5529-0690-4D48-9C33-3A07B753AAE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58D5BB-B85F-4D5D-8BD4-F7CE71A0CA5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62A8CF-4C75-4F69-BB32-454ED103C72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1E18A7-9859-4BFA-B1AE-BDA08AB6A95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FD4CF1-4BA5-461B-B3F5-399A35E064A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CEC827-833A-48FF-AA6C-7405970402A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96F3C0-977C-4E0C-B46D-75CE795D5A0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237040-037F-4784-9196-0321097C5EB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D5F42D-D897-4A50-959D-C60E1249A90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5B94D7-5B80-4EAF-B8D9-554F8321A42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9A0DF7-BC18-4C89-9CB5-AF6F83836D1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936253-B8B2-431F-8C73-43403AB8BEF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D13800-D025-49F8-A231-2D6E4052AD7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08B1A5-F15F-4EC2-B2F9-C237136B528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C29731-3478-4988-9116-858631278C3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B736AB-3857-4DDF-AFCD-320B285DE67D}"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3EF4AD-F07A-47B1-9299-5BA70D2C25A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A1E36A-7F74-4D85-B822-BFCC47B1275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206144-8CFF-4993-AF2F-74196FBA1C3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89F973-EB75-4DB1-B575-5BDDE893ABAA}"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BF0403-79D9-4907-8D7C-FAA7B3143A9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8DCC2B-B4EB-44C8-81B1-1E54B54839D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A9761D3-DA44-448B-BA7A-085271E2764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AF6577-2B6F-4A62-BA3C-B35C2B32346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EEFDD6-BFDA-435C-B2BD-D27569ABFE5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E528D0-74FE-4C9E-9DB4-E140FD8A389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65B51A-F6C5-4FDD-B429-75640A224D1B}"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850169-CBFF-4C70-ADE7-B36F4280C92B}"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06F950-6246-418F-BF47-E485C57B736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B664F5-747F-4888-92FE-F80A997211C3}"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3A4D90-9740-4D3A-8EE2-7B89E1034F1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B64F67F-CDB4-4970-818C-1BC937B4888A}"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654FE7-C2BE-4348-B2BC-42D27555A9B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01F9A8-BF9A-42B4-ACB4-BA9CD511AC40}"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ABEA70-A3A4-46F0-A9FF-831A0EAD151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903889-B539-4AEC-A02C-AE6E015A263A}"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B44A52-A83D-4260-9764-02ED3805625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28B461-0B50-4B7C-BC41-69A7BBB559D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BA49B5-65D2-40B0-AA49-366ACB26BAE0}"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B55E89-7FA5-44B0-9877-F8716A279302}"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08F037-5506-4610-BA18-EA67C143106F}"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BC8075-0EC4-4E68-8B1B-AD7677DCDD2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E6AD0A-44CE-40D3-BBE0-84D09F0B5B22}"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69DEBD-FB59-46BD-8092-29AE06A14013}"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A3E3A3-EB06-466D-BE54-DDB5D627DDE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30D381-2D87-4C72-8EE5-49E2D71FDE0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BD0D3DA-A8BC-4478-996B-C07EE3B12C0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3C3F2C-D3C0-45C7-BC3B-C9CAD9C14B20}"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E31992-DDE1-428B-AFEC-B39A5F8CEA25}"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69BE90-7FE4-4867-82E8-7F8D47991BB7}"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85F843-B152-4714-9129-1276166BA18D}"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DD8E4C-23BD-4F10-A104-69134ED4F670}"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CFE356-9C96-45D8-9125-0F92AEC936FA}"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F217ED-CB56-4558-A19B-0B0F7EC0B679}"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173F68-9506-4873-94D0-E542292CA0E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5E24DC-CF01-41C3-8002-1873CCB1CA59}"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78199D-76DB-46C8-8C68-0EC3E179BB65}"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4EA6A5-6600-457C-9691-33D1C1878402}"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4B9073-86C5-46B3-ABDE-BDD972924776}"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9594B1-803C-4C0C-9C7D-535B5FA876CE}"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