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C482-0E4D-4B84-AA88-A7D7E0526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005E-5DBA-4418-B076-B2662E724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3064-8679-4B45-965B-33151B3E4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315F-B736-49CF-B45E-155C25F65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309F-B7B1-4897-91EA-CDABD1F50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4591-B36D-4E9D-AE34-96E713069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A479-0915-409A-88AE-40ADFA4A9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2E8D-3BF5-4915-B743-2D79297D2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7707-E656-4650-B807-B90779CA8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0F56-3913-4410-9EA1-1BA75B7E3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F78C-44B2-46C9-9D5C-D5D4FCE6E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AFDD-4D45-48A1-BFA6-9EF6C7914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0959B-510A-4FAB-98CE-7A02C145D7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352680" y="1600200"/>
            <a:ext cx="2387880" cy="190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58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old.computer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2362320" cy="23065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 rot="10800000">
            <a:off x="4190760" y="3809880"/>
            <a:ext cx="609480" cy="60984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c2" descr=""/>
          <p:cNvPicPr/>
          <p:nvPr/>
        </p:nvPicPr>
        <p:blipFill>
          <a:blip r:embed="rId2"/>
          <a:stretch/>
        </p:blipFill>
        <p:spPr>
          <a:xfrm>
            <a:off x="6095880" y="609480"/>
            <a:ext cx="1524240" cy="15242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57200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352680" y="1600200"/>
            <a:ext cx="2387880" cy="3505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80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352680" y="3733920"/>
            <a:ext cx="2362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tech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&lt;details 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15200" y="2819520"/>
            <a:ext cx="76212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705720" y="35812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6172200" y="1600200"/>
            <a:ext cx="533520" cy="3505320"/>
          </a:xfrm>
          <a:custGeom>
            <a:avLst/>
            <a:gdLst>
              <a:gd name="textAreaLeft" fmla="*/ 340920 w 533520"/>
              <a:gd name="textAreaRight" fmla="*/ 533880 w 53352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mainframe" descr=""/>
          <p:cNvPicPr/>
          <p:nvPr/>
        </p:nvPicPr>
        <p:blipFill>
          <a:blip r:embed="rId1"/>
          <a:stretch/>
        </p:blipFill>
        <p:spPr>
          <a:xfrm>
            <a:off x="1219320" y="4114800"/>
            <a:ext cx="2000160" cy="22352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 rot="10800000">
            <a:off x="3276360" y="5333760"/>
            <a:ext cx="609480" cy="60948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05320" y="3505320"/>
            <a:ext cx="2057400" cy="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6858000" y="304920"/>
            <a:ext cx="1447920" cy="14000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219320" y="487692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29T14:09:38Z</dcterms:modified>
  <cp:revision>39</cp:revision>
  <dc:subject/>
  <dc:title>PowerPoint Presentation</dc:title>
</cp:coreProperties>
</file>