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93764"/>
        <c:axId val="22040280"/>
      </c:barChart>
      <c:catAx>
        <c:axId val="49493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40280"/>
        <c:crosses val="autoZero"/>
        <c:auto val="1"/>
        <c:lblAlgn val="ctr"/>
        <c:lblOffset val="100"/>
        <c:noMultiLvlLbl val="0"/>
      </c:catAx>
      <c:valAx>
        <c:axId val="22040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93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6CE-5212-49FB-8A48-B88C9DBA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E63-BBBD-4DF3-AEAF-753BD157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C47-C620-4228-9F17-D4FB58A0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42B-D327-4A94-81E8-1EA4544D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3EF-44B6-4ABB-B62B-3ED50AED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430-E9CE-4743-B0E0-34816C0C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D2B-30E9-483C-9137-4A104777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691-0EF9-4001-B315-BC1EDF3D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7DF-AAEA-4529-96B3-EC769ECF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6C1-4026-4363-AA84-8F878ABC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6CF-3A8E-4668-9FF0-3EF1B2BD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906-D3A8-45F3-BB7E-98FC4F2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2C5BA-23C0-470A-9F1E-3864EBF92E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