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11696"/>
        <c:axId val="44827017"/>
      </c:barChart>
      <c:catAx>
        <c:axId val="35211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27017"/>
        <c:crosses val="autoZero"/>
        <c:auto val="1"/>
        <c:lblAlgn val="ctr"/>
        <c:lblOffset val="100"/>
        <c:noMultiLvlLbl val="0"/>
      </c:catAx>
      <c:valAx>
        <c:axId val="44827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11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75E-1338-441B-9CE3-9F395AED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E2D-0DE4-4800-B781-5D7D5EF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0CB-4004-41C5-9E60-A9908EDC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DF1-CC99-4FD9-AFA6-CF9D6864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0CC-957C-4C08-A1D2-7D3EA64B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0C9-16BE-4437-AD1A-CE21CE95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F93-6978-42E6-B397-42681612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944-957F-4663-8065-547E0CD5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2F5-349F-409C-8C3D-6C78C7AE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364-1618-4866-8F77-8EF83461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F29-8B66-4575-BCE6-9D70B31E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AC9-0DD9-4F2C-90D9-F00D0D3D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0B6B3-83FB-4075-BEB3-5D0551E2F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