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70275"/>
        <c:axId val="8264759"/>
      </c:barChart>
      <c:catAx>
        <c:axId val="35970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4759"/>
        <c:crosses val="autoZero"/>
        <c:auto val="1"/>
        <c:lblAlgn val="ctr"/>
        <c:lblOffset val="100"/>
        <c:noMultiLvlLbl val="0"/>
      </c:catAx>
      <c:valAx>
        <c:axId val="8264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70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04A-BA22-48E8-B2F9-75361EB4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7BB-BC07-4E45-8A4C-1F512795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A03-A0FD-430F-B004-47BB7BC4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2E4-CFE7-4121-867A-B6A3E8F0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396-D364-491D-8154-7079387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FAA-E1BA-4F00-B9C6-958A00E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DC4-794E-4670-B6FD-60539442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DAE-845E-4BE7-8126-B54504FE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713-9A6C-4217-9AC3-EDFAE173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473-7BA1-4583-B562-6D183D6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F17-7939-4608-81BC-4E795CDE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983-7416-4A3A-A6AF-84C53E9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CE271-06E3-4895-90E1-FA1FB1073D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