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80727"/>
        <c:axId val="14631985"/>
      </c:barChart>
      <c:catAx>
        <c:axId val="73180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31985"/>
        <c:crosses val="autoZero"/>
        <c:auto val="1"/>
        <c:lblAlgn val="ctr"/>
        <c:lblOffset val="100"/>
        <c:noMultiLvlLbl val="0"/>
      </c:catAx>
      <c:valAx>
        <c:axId val="14631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80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54B-0CE9-4A7A-B78B-31B70FFC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E27-B8D3-4DAE-B0CA-FD2CFB0C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B1A-B139-4012-9DE9-F5088299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089-C3FA-4CBC-9D93-CFF4E005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C90-9B2C-4A1B-B0E2-5BD010D4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D98-A540-4CB8-AFD6-DA3685A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1FE-D8E5-47BC-96EF-0EF327E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81B-9400-46EA-AB1B-BBF49CCD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B84-11D2-48C3-8402-A6F4A986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04E-2CB4-4E13-BA0F-44DCA89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BE4-8AED-4E29-8208-F1E9F0B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BA2-9CC1-487D-B65D-26890FC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355AF-F247-449B-A10E-DAEC336883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