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CB12-DEF9-49D9-B986-2253812B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7057-A177-4BCD-8A1F-2BC84C09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02F6C-ACBF-4CD9-9256-08FEFE9E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663E6-D9BC-4F82-B542-7045434B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3D842-E615-4B36-8FFD-838A0BD2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056F1-4693-48C3-80E4-CD03E873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BA7AB-A4FB-48B9-80F0-5E86D6EC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00A64-055A-47F5-8FA9-2FA96F55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F8053-669D-40F6-BB97-55D3B178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BAE5D-3BDB-4CDE-8B0A-2F3917E14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6F075-7E94-407F-93F6-8D22859FE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E1FCA7-ED2E-460F-8693-8B0A8BAC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6A05-A357-4875-821D-93409D24C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459483-01E4-4BBB-A5D0-06E4ACED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3671CA-3E53-408B-9BD1-1084AE0F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5B8F77-C7A6-4696-9708-325513F9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FF4954-9F30-48BE-BB97-B494C5B3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71EECC-5B90-484A-8165-85D30BC1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572F26-3D5D-466F-91A8-6160ED6C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1766FE-A2DA-4FE4-BECE-17BB209A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14B80F-500F-4904-BB5E-A93275F8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4EA688-713F-426A-950D-635BF055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60756A-12FF-41A3-AE76-2B2E472C1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33AB-46D1-4578-BC8D-6B9EBEBCC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8CABDB-B859-4E23-8B08-BA79C62E3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91C5F-DA04-460D-A7E7-D80713360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3AB3A-A345-4A04-BE5A-C486594D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1749E-2869-47F7-96E3-4E0C2F7D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B9F14-6BFF-4090-94A8-8844FD59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BF9FB-5C03-4A49-B5DE-1C490021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91B85-6DE9-4011-9524-62731D4E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BB7F7-FEDE-40D0-B31B-ADBBC102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1497C-8154-4F58-BDDE-63855BE4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890A0-97C5-4C30-9681-7EA670BA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3E7A-B7ED-4D56-A32A-59381429F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FB9CE-6906-485A-B5C5-0848C0B7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E96AE-0A7A-4124-B007-609EFD0D2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1957B-BF8C-4BE3-9DF7-2476A1A31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CC4F2E-6C6F-4DFD-8BD3-00C772CA5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DD68EC-EC60-48B6-9DBC-C46D9CF4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1B7651-E003-4FC6-A566-91B5B770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A0A9B9-B336-4446-A77F-BABBCE71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0614B1-F701-4043-9761-BB3B61EA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D469B5-07D5-4F02-87CB-46BF5701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71769-3894-49C1-A13A-0C627A5E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0CFD-A619-4CE8-B129-7824DC9F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CCE7DC-7E83-4F40-87FD-0D645197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C0B974-ABED-40B5-AF10-C34B676D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A5C537-2279-4782-9DE6-747ED12E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F626B9-3491-4B80-BE39-29DBB95F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066C7A-6883-4329-9FF5-D065C9B1F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158A-D22C-4B63-9D22-27DCF193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000F-C5D2-4A7A-A6A1-A5DFB4DC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07C1-B2F0-4110-9417-E594A4C7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8739-B611-4A5A-8C17-29C67AD3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1DDE-E383-42D5-A3AC-EAD2EC24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4A06-E51B-45E3-B8ED-39E636F4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B2AD-4569-4C6D-A101-939E6547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D72C-13AD-4537-9CF7-2BE670D8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23E6-34FC-409B-B3EC-DF46E78D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23F4-4BE6-4414-A0E8-A82847213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05D5-3AF9-41BE-B22F-56F2E74C6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15F31-A248-44AB-B1E2-7C63A61C4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530C7-B543-4174-9EB4-81F11BA7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615C4-FCBB-49D3-A74A-0210B502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DBBC5-972B-406F-8685-86F87891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14526-1DC8-46D7-A504-3DFE92BA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2A03-73B6-462E-B51B-A960B956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540BE-367A-41B5-809E-C145505B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11C4D-5B4D-4908-9BCA-B2D66997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9843B-DC70-4D5B-A632-F3D95929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4C8F2-6AE8-4BDD-AAFF-8B0188E8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FE851-B898-4D1F-9761-89073C79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0B90C-0763-4F49-93C4-D111F01CE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FC6C4-F377-4764-B4A9-CC2DE5D52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FFF36-2BC1-448D-A292-00C0D1AAB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38CE6-D2CB-4229-8A51-0C2E10BD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5C657-AA35-4A0E-BF61-6016E363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D0AD-2A72-4388-B2C4-A679A1DA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75C5B-0B76-49AC-8841-2C53DC1A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80DA0-683C-400D-B064-5AE752BA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FC825-AD1F-494C-87AB-32F75CEB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80B68-CA60-4F62-A548-215923D2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A750E-E947-4F00-AE40-EA235F67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FB4F5-E57F-40BC-94CF-87AE1D5C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C35C4-ADF1-4CAA-8421-BCCF1DB0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8C28A-B3E6-4F69-ADE5-8DD803B06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E03A7-5D42-4D49-89E7-8B286F696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EC9721-714A-4E46-86D5-AD56F6BC1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38CA-ECC5-46A5-A9CB-3F5E8698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5121FF-5687-499D-891B-D9F7EBD0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6CA97D-11A9-4814-AC21-49F12A24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A47A3E-FE04-4D0E-8134-0E6E0ED0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55BDD2-8296-4AF1-A07D-5DEF852D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041752-A797-4826-B351-75B163F1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E912CF-F5CB-4AD1-AF69-9225775D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E90210-5AAA-4BA8-9E34-5450F144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BCEE20-257F-4663-997D-6E2862CF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C25727-3297-4768-ACCB-4F85C236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3311A6-B93E-4E5F-B692-D35793A60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3768-E58C-4C11-BA0E-E7BD4039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DB4F0B-6523-4738-91F2-1A830421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1806D-1840-4E93-8C7C-B1D19E25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51055-E0E3-4839-9C81-98DC0932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84616-0FF7-4DFC-A880-0847CFD1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622FE-9159-4490-B8D2-34D42A22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78A71-69CB-4DDC-9D16-FE3494E2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D5166-D45B-4E7A-9F55-E79C5E89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5DFA1-C89B-4A3E-B1EB-F46A3D1D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AE50E-8B00-4FE8-BD67-D07AC4F1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235C3-20B0-44BC-AA15-3F48E88F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4B42-494B-43BE-871D-EC6AC339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80FC2-1838-449D-BBBA-CDB87EA0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A881B-8280-41DA-8346-E80E3FEFC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5ABF7-F633-4837-9EAD-95C387558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D8CEB-3806-4070-8C1F-B3B06760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87271-1DAF-4623-85CC-318F5F8F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27C96-2E55-4183-9A6E-56EBF5CF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03649-A040-4D5B-AC1D-BEFE9C73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15C8B-F736-4302-BD3C-0F084126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1A9B4-2492-4478-A4B4-A60EF099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C322B-32F3-411A-B4D4-8EDF8974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C45A-41C3-419D-B7FB-67C612F8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0F864-0C1B-4198-8836-BE48D1AF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5FABB-9120-44E3-8570-756C10B5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D47CB-AEBB-427E-B531-678D79FC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E820B-6CE4-48E8-88C5-9B9527FD7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1A100-BBF1-41B5-9FCD-66A1D60F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8C478-DC02-4A79-9808-2FDD3B960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E2407-5036-43F3-8F1E-11C8DBC3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4810B-109B-4A0C-B642-675AB991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55ED2-E6DC-4957-9BB6-BAA05DD0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5590C-8C4D-4003-ABC5-B4D3613B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81EB-A6E1-4FB4-B3AB-9D71AA5D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8D7B0-CED2-4F7B-9291-32B04A37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E8EEC-C018-4D95-81CD-B731B257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D814C-D0A2-483C-A50D-F6972C24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46C14-817E-4E56-9D6E-7685D7C3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15520-4B77-434B-96C4-72CD9CA5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FA739-086D-49D2-B210-7FAA37D58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4E589-1295-47CC-A96F-6D3CA67C5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00506-3E38-42C4-8EC8-F65CB049A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5B0F0-9E2D-4D9D-A65F-C7B3D897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411C7-CA23-4043-9112-3676B301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D0AC-BE36-48C1-88E9-C4381F6EB51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444A-9432-4095-BBCF-8F5E740DB27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F8D3-15E4-45CF-9495-42055B7ACF0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6B84-3E4D-4A92-B276-859E6216A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FC31-3330-4F64-8CD6-69B52E8508DE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C83F-1E1F-4D89-A9DC-727746B801C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85AD-E4FF-42E1-B4AE-59302A7CAD6A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5C2C-D052-4C35-9999-50FA797021C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F4BD-410E-4AAC-B81D-A9B20C85324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704E-AA9F-4CCA-9B33-D2641D3FEB3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BE82-61CC-4E65-831A-F55EC823864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82C9-78A0-48BE-9418-4E5DE4CD5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DC21-268C-4145-905F-20F5981627B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7D3A-65A9-4CCC-9944-1F5833606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75FA-C48B-474B-8620-6F0B043DD4B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726F-D868-4D7C-9189-92EA9E9A2C67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F609-172D-4AD9-8614-07FF5D59601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B5EC-FED0-43E5-B1E5-791E63AA47F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F8ED-E04B-4249-8697-115A5B3E173A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8D8D-C15A-4425-99E8-71352024A6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3C6E-7A8B-485B-BD97-335D4597599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4B4D-DB23-4622-9B55-0AB14905275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A686-1631-41E3-9521-B59E9FC1CBF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146B-E37E-4072-A149-6B99AB8F9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E837-304D-49BF-8F5D-4B4DD898FD9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07E271-7BA5-4DB3-99D7-2A7D25C8716A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88620-D7D9-4FCB-B619-9F77DA0E73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8EEA0BD9-ED73-48E7-8E39-D12857CB6B7D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19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23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B97A1-5278-41DA-9302-15CAA4EE0ACA}" type="slidenum">
              <a:t>3</a:t>
            </a:fld>
          </a:p>
        </p:txBody>
      </p:sp>
    </p:spTree>
  </p:cSld>
  <p:transition>
    <p:comb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F09172-D512-4B87-84FD-B4885E610EB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DDC8FCFA-434B-49DE-90D0-043B58A9EA01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8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4BD8F-3F39-43E6-A5FB-B3AD3E4F1A5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6E9A8BAF-43EC-4379-A215-3C23A107A218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6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8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9000"/>
                            </p:stCondLst>
                            <p:childTnLst>
                              <p:par>
                                <p:cTn id="3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B4859-1426-4347-9128-DF6AF6DDBC7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0DEBFF75-247A-41FA-B0C4-56F0FA520ED3}" type="datetime1">
              <a:rPr lang="en-US"/>
              <a:t>07/29/26</a:t>
            </a:fld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