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0D88-0B91-43FF-B526-3465008E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3363-9F97-4C8F-898C-71D7C4F0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A9EB-463A-40D7-8CF8-DAD8CCE31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C171-DAA5-49C1-A134-47295CDC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2779-9AAD-4F69-B672-9BE9E645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9F13-0B11-47DB-91AC-E6CB1DDA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DF12-4A25-49F8-ABFC-EB74B831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DC00-36F8-47E8-862D-E2A00081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1957-926C-40A2-A103-18FA3241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9F2A-FB7E-4DB4-9CF2-F946F97B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91A1-3494-4EAC-9424-E784C863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2635-3854-41F9-BCB9-E484EE30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4FDD-B053-4B36-AB46-A7AD5F7E5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Zeb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routing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Magic Labs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dae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pping service around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routing table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istribute routing information between different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DEL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INTERFACE_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IP Version1, 2  RIPng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G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flap dam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OSPFd and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time to develop other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aemon has their own terminal interface and configuration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(for *BSD),RIPd,BGPd(dump only)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ML                                 &lt;zebra@digital-magic.co.jp&gt;                           for subscription please write to           &lt;zebra-request@digital-magic.co.j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Home Page              http://zebra.digital-magic.co.jp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Zebr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distributed multi-server multi-thread routing soft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free software distributed under G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Modularity,extensibility,maintain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t provides user level packet forwarding table when working with GNU Hu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do we need yet anoth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ting softwa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er development software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ernel routing table update and redistribution between different protocols are provided by zebra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ther daemons are for protocol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Easy to add a new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BGP route server and route reflector are integrated into BG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multiple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ncreases modularity, extensibility, maintain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llows incremental development of a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add a new protocol without changing other sourc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easy to 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servers can be s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nter process communication V.S. intra process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kernel routing table updates and redistribution would be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Authentica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Zebra architecture on GNU Hu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2895480"/>
            <a:ext cx="99036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fi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9400" y="3429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440" y="34290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640" y="33526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4114800"/>
            <a:ext cx="99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952880"/>
            <a:ext cx="59436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533412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010280" y="2209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209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01992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362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292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514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9400" y="3429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19112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146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2360" y="32767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2360" y="39625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ser lev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ing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IP Address  (and destination) based policy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interface routing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much more idea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876920"/>
            <a:ext cx="9907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56386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6095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038480" y="441972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76920" y="4419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31T16:02:06Z</dcterms:created>
  <dc:creator>Digital Magic Labs, Inc.</dc:creator>
  <dc:description/>
  <dc:language>en-US</dc:language>
  <cp:lastModifiedBy>Digital Magic Labs, Inc.</cp:lastModifiedBy>
  <dcterms:modified xsi:type="dcterms:W3CDTF">1997-06-08T12:35:31Z</dcterms:modified>
  <cp:revision>13</cp:revision>
  <dc:subject/>
  <dc:title>The Zebra Distributed routing system</dc:title>
</cp:coreProperties>
</file>