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59BD-D893-49AF-A174-E9F55BCDB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89C5-653A-46AA-8D3C-992F8211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44D5-67BF-49CF-885C-BF974DFD6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BA0E-B2DB-4E24-BDD8-1CF1E5453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22F5D-B6DF-414C-BA62-69662313A5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54394-B866-4679-A67D-24AB9408DC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7C8896-5729-44DE-8DAE-B382D315349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BCD709-288F-4618-B517-B38D9288A8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96065-44C9-4597-A135-A8C3F52866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DC5DF-AB23-4982-89F5-AF0ACB4E3C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9C9760-5BEE-46DC-A920-DDE1201C4C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0351-45E1-4D13-8A75-A3724B52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55C24-CCFD-468C-A27F-67D1C4AC02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95CF9-273C-455A-9AB1-1C6ECF2CC1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8B56FC-1FF6-4362-B219-4217D5A53F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37520-87DE-4302-AAB7-92197342AD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026D55-DA15-4CEF-B5A4-07F3796483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632F-C427-43F2-AAF0-9F581613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BC19-CEEA-4E6C-9C5A-39592FCF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2003-5FB7-42AF-B49B-CB2B69D5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CB8F-6651-47A1-A3AF-6D92D500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3E7D-2B25-42CB-93E9-F6A521EB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1F3F-5D59-42FE-B4B5-BB097768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E3B8-7A49-4076-966B-55389B0A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1EBD-7495-44DD-B512-77102E09C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DD2F-7BAC-4238-822F-22940DC134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iki.tcl.tk/3099.html" TargetMode="External"/><Relationship Id="rId2" Type="http://schemas.openxmlformats.org/officeDocument/2006/relationships/hyperlink" Target="http://wiki.tcl.tk/3099.html" TargetMode="External"/><Relationship Id="rId3" Type="http://schemas.openxmlformats.org/officeDocument/2006/relationships/hyperlink" Target="http://wiki.tcl.tk/3099.html" TargetMode="External"/><Relationship Id="rId4" Type="http://schemas.openxmlformats.org/officeDocument/2006/relationships/hyperlink" Target="http://wiki.tcl.tk/3099.html" TargetMode="External"/><Relationship Id="rId5" Type="http://schemas.openxmlformats.org/officeDocument/2006/relationships/hyperlink" Target="http://wiki.tcl.tk/3099.html" TargetMode="External"/><Relationship Id="rId6" Type="http://schemas.openxmlformats.org/officeDocument/2006/relationships/hyperlink" Target="http://wiki.tcl.tk/3099.html" TargetMode="External"/><Relationship Id="rId7" Type="http://schemas.openxmlformats.org/officeDocument/2006/relationships/hyperlink" Target="http://wiki.tcl.tk/3099.html" TargetMode="External"/><Relationship Id="rId8" Type="http://schemas.openxmlformats.org/officeDocument/2006/relationships/hyperlink" Target="http://www.tcl.tk/man/tcl8.4/" TargetMode="External"/><Relationship Id="rId9" Type="http://schemas.openxmlformats.org/officeDocument/2006/relationships/hyperlink" Target="http://www.tcl.tk/man/tcl8.4/" TargetMode="External"/><Relationship Id="rId10" Type="http://schemas.openxmlformats.org/officeDocument/2006/relationships/hyperlink" Target="http://www.tcl.tk/man/tcl8.4/" TargetMode="External"/><Relationship Id="rId11" Type="http://schemas.openxmlformats.org/officeDocument/2006/relationships/hyperlink" Target="http://www.tcl.tk/man/tcl8.4/" TargetMode="External"/><Relationship Id="rId12" Type="http://schemas.openxmlformats.org/officeDocument/2006/relationships/hyperlink" Target="http://www.tcl.tk/man/tcl8.4/" TargetMode="External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ki.tcl.tk/1611.html" TargetMode="External"/><Relationship Id="rId2" Type="http://schemas.openxmlformats.org/officeDocument/2006/relationships/hyperlink" Target="http://wiki.tcl.tk/vfs" TargetMode="External"/><Relationship Id="rId3" Type="http://schemas.openxmlformats.org/officeDocument/2006/relationships/hyperlink" Target="http://wiki.tcl.tk/vf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izes on 32-bit opera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rename |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enter | leave | enterstep | leav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array | read | write |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style trace command depre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labelframe" descr=""/>
          <p:cNvPicPr/>
          <p:nvPr/>
        </p:nvPicPr>
        <p:blipFill>
          <a:blip r:embed="rId1"/>
          <a:stretch/>
        </p:blipFill>
        <p:spPr>
          <a:xfrm>
            <a:off x="1143000" y="5257800"/>
            <a:ext cx="1393920" cy="1303200"/>
          </a:xfrm>
          <a:prstGeom prst="rect">
            <a:avLst/>
          </a:prstGeom>
          <a:ln w="0">
            <a:noFill/>
          </a:ln>
        </p:spPr>
      </p:pic>
      <p:pic>
        <p:nvPicPr>
          <p:cNvPr id="227" name="panedwindow" descr=""/>
          <p:cNvPicPr/>
          <p:nvPr/>
        </p:nvPicPr>
        <p:blipFill>
          <a:blip r:embed="rId2"/>
          <a:srcRect l="2608" t="37648" r="3123" b="13154"/>
          <a:stretch/>
        </p:blipFill>
        <p:spPr>
          <a:xfrm>
            <a:off x="6718320" y="3200400"/>
            <a:ext cx="2295360" cy="1709640"/>
          </a:xfrm>
          <a:prstGeom prst="rect">
            <a:avLst/>
          </a:prstGeom>
          <a:ln w="0">
            <a:noFill/>
          </a:ln>
        </p:spPr>
      </p:pic>
      <p:pic>
        <p:nvPicPr>
          <p:cNvPr id="228" name="spinbox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9493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windowing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distinguish between Xlib and native A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hange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ki Changes in Tcl/Tk 8.4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wik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/3099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cal mode wiki on the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 Change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0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1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2"/>
              </a:rPr>
              <a:t>/man/tcl8.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tails in BoF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Boo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941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ing soon to a store nea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lch 4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lynt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bookcover" descr=""/>
          <p:cNvPicPr/>
          <p:nvPr/>
        </p:nvPicPr>
        <p:blipFill>
          <a:blip r:embed="rId1"/>
          <a:stretch/>
        </p:blipFill>
        <p:spPr>
          <a:xfrm>
            <a:off x="3627360" y="990720"/>
            <a:ext cx="4830840" cy="52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Tcl and Tclkit b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ver 2 years in the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iki.tcl.tk/161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http://wiki.tcl.tk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v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fication of the C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incompatible – with a compatability 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2-09-11T16:00:26Z</dcterms:modified>
  <cp:revision>416</cp:revision>
  <dc:subject/>
  <dc:title>8.4 Tcl Overview</dc:title>
</cp:coreProperties>
</file>