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9C90AE-4F62-4721-8C6C-01CEAF33E8D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1D6417-893D-4C4F-A38C-994C768B3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4AAB4B-EDE4-4492-B688-306FC799F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FCF675-1364-4AA0-ADE7-D9F9D95D120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82D5A-C2D5-40A3-A48F-4F32EC7977F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4B0E9-5347-4316-9C77-5B5D9B0A4FD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873EE-7B1D-44D4-8F73-6FF271A3526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F3275-19B6-4DFF-9307-4BCC00F33C6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0D36A-104C-4160-B90F-1D42F02D70B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676520" y="291960"/>
            <a:ext cx="716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B8E2B-46F7-48C4-AA31-DA92C393B74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C0FDE-7A90-4060-88CC-9B721DE4A06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949FA3-514B-42AF-A1FE-E7C73304A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46F17-7962-4247-8DCD-EC00CA2CACC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CC977-3F8C-4C97-8798-BE53DC1DE76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42B46-4CC7-4C5E-A771-665E9789DB5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B8ADE-1B14-4999-A81F-83245D8A3BA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310EA-E898-4846-BDFA-A880A3F0CC8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F6CB2A-0E87-4A74-873F-877172D6B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F5FAF6-0ECD-4783-9242-BC60ECC39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63D78F-C5F7-4EC7-B326-393269C5D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76520" y="291960"/>
            <a:ext cx="716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04B954-BFF5-49EC-BD4B-CF0F46C50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8316AD-E6C1-41FC-B957-CFC035E2A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B0F20E-B82A-49B7-8FB5-C38687233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656731-6889-41DD-9035-EE6408F2B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" name=""/>
          <p:cNvGrpSpPr/>
          <p:nvPr/>
        </p:nvGrpSpPr>
        <p:grpSpPr>
          <a:xfrm>
            <a:off x="208080" y="291960"/>
            <a:ext cx="8707320" cy="636840"/>
            <a:chOff x="208080" y="291960"/>
            <a:chExt cx="8707320" cy="636840"/>
          </a:xfrm>
        </p:grpSpPr>
        <p:sp>
          <p:nvSpPr>
            <p:cNvPr id="2" name=""/>
            <p:cNvSpPr/>
            <p:nvPr/>
          </p:nvSpPr>
          <p:spPr>
            <a:xfrm>
              <a:off x="228600" y="304920"/>
              <a:ext cx="8686800" cy="609480"/>
            </a:xfrm>
            <a:prstGeom prst="rect">
              <a:avLst/>
            </a:prstGeom>
            <a:gradFill rotWithShape="0">
              <a:gsLst>
                <a:gs pos="0">
                  <a:srgbClr val="b82619"/>
                </a:gs>
                <a:gs pos="100000">
                  <a:srgbClr val="ffffff"/>
                </a:gs>
              </a:gsLst>
              <a:lin ang="108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3"/>
            <a:stretch/>
          </p:blipFill>
          <p:spPr>
            <a:xfrm>
              <a:off x="208080" y="291960"/>
              <a:ext cx="1447560" cy="63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body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1D85F-6D57-46EF-A51C-408A02DB9F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251460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071DF-DACD-4B69-B99E-4CA13F5115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activestate_logo" descr=""/>
          <p:cNvPicPr/>
          <p:nvPr/>
        </p:nvPicPr>
        <p:blipFill>
          <a:blip r:embed="rId3"/>
          <a:stretch/>
        </p:blipFill>
        <p:spPr>
          <a:xfrm>
            <a:off x="7785000" y="2565360"/>
            <a:ext cx="1314720" cy="5716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ActiveStat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3200" spc="-1" strike="noStrike">
                <a:solidFill>
                  <a:srgbClr val="000000"/>
                </a:solidFill>
                <a:latin typeface="Arial"/>
              </a:rPr>
              <a:t>Applied Open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Core Tea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ed in August 2000 with 14 charter members based on community voting to collectively manage development of the 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2133720" y="3032280"/>
          <a:ext cx="5105160" cy="2766960"/>
        </p:xfrm>
        <a:graphic>
          <a:graphicData uri="http://schemas.openxmlformats.org/drawingml/2006/table">
            <a:tbl>
              <a:tblPr/>
              <a:tblGrid>
                <a:gridCol w="2552760"/>
                <a:gridCol w="25524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reas Kupr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rl Lehenbau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 Harris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chael McLenn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. Richard Hip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ffrey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hn Ousterho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orge Howlet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 Por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im Ing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ent Wel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7" name=""/>
          <p:cNvGraphicFramePr/>
          <p:nvPr/>
        </p:nvGraphicFramePr>
        <p:xfrm>
          <a:off x="3753000" y="5799240"/>
          <a:ext cx="1866600" cy="431640"/>
        </p:xfrm>
        <a:graphic>
          <a:graphicData uri="http://schemas.openxmlformats.org/drawingml/2006/table">
            <a:tbl>
              <a:tblPr/>
              <a:tblGrid>
                <a:gridCol w="18666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vin Ken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T: TIP Initiativ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IP page for Tcl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 u="sng">
                <a:solidFill>
                  <a:srgbClr val="0066ff"/>
                </a:solidFill>
                <a:uFillTx/>
                <a:latin typeface="Arial"/>
              </a:rPr>
              <a:t>www.tcl.tk/cgi-bin/tct/tip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IPs are intended to guide and document development on the c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hey focus on new or changing features, not bu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Voted on by the TCT following community discussion using the TYANNOTT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Currently over 130 TI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Divided into process, informational &amp; project T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T discussion is open on the public mailing list: </a:t>
            </a:r>
            <a:r>
              <a:rPr b="0" lang="en-CA" sz="2800" spc="-1" strike="noStrike" u="sng">
                <a:solidFill>
                  <a:srgbClr val="0066ff"/>
                </a:solidFill>
                <a:uFillTx/>
                <a:latin typeface="Arial"/>
              </a:rPr>
              <a:t>tcl-core@lists.sourceforge.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Maintainer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l/Tk maintainers are separate from the T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aintainers oversee a specific area of the core, as defined in TIP #16 for Tcl and TIP #23 for T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y assist, but are not solely responsible for, fixing  bugs and adding documentation in their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y are responsible for reviewing code and approving code changes to their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Open to anyone willing to learn the c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New volunteers always welc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he Maintainers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276200" y="3886200"/>
          <a:ext cx="7315200" cy="1595520"/>
        </p:xfrm>
        <a:graphic>
          <a:graphicData uri="http://schemas.openxmlformats.org/drawingml/2006/table">
            <a:tbl>
              <a:tblPr/>
              <a:tblGrid>
                <a:gridCol w="1716120"/>
                <a:gridCol w="1986120"/>
                <a:gridCol w="1987560"/>
                <a:gridCol w="1625400"/>
              </a:tblGrid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en Flic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ter Spju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dd Helf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ff Hob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orge Smi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édéric Bonn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vin Griff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nce Darl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engye Ma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 Nijtm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al Fellow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 DeJo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e Englis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niel Steff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n Riefenstah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guel Bañ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4" name=""/>
          <p:cNvGraphicFramePr/>
          <p:nvPr/>
        </p:nvGraphicFramePr>
        <p:xfrm>
          <a:off x="1241280" y="1676520"/>
          <a:ext cx="7315200" cy="1622160"/>
        </p:xfrm>
        <a:graphic>
          <a:graphicData uri="http://schemas.openxmlformats.org/drawingml/2006/table">
            <a:tbl>
              <a:tblPr/>
              <a:tblGrid>
                <a:gridCol w="1716120"/>
                <a:gridCol w="1985760"/>
                <a:gridCol w="1987560"/>
                <a:gridCol w="1625760"/>
              </a:tblGrid>
              <a:tr h="40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niel Steff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im Ingh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vin Kenn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ff Hob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guel Sof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reas Kupr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lf Schroed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nce Darl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 Por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 Nijtm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al Fellow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 DeJo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t Thoy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e Mistachk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vel Gor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5" name=""/>
          <p:cNvSpPr/>
          <p:nvPr/>
        </p:nvSpPr>
        <p:spPr>
          <a:xfrm>
            <a:off x="609480" y="1219320"/>
            <a:ext cx="207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cl (TIP #24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09840" y="3429000"/>
            <a:ext cx="199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k (TIP #30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08760" y="5638680"/>
            <a:ext cx="480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ways open for new recruit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Scriptics/Ajuba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criptics became Ajuba Solutions in May 2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New focus as a B2B infrastructure comp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nterwoven: content management company in need of B2B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Ajuba assimilated on Nov 1, 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cl/Tk moved to SourceForge:</a:t>
            </a:r>
            <a:br>
              <a:rPr sz="2400"/>
            </a:b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tcl.sf.net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Further open source work not continued at Interwo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Most other projects at Ajuba moved to SourceFor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eferences to Scriptics site should all be changed to </a:t>
            </a:r>
            <a:r>
              <a:rPr b="0" lang="en-CA" sz="2800" spc="-1" strike="noStrike" u="sng">
                <a:solidFill>
                  <a:srgbClr val="0066ff"/>
                </a:solidFill>
                <a:uFillTx/>
                <a:latin typeface="Arial"/>
              </a:rPr>
              <a:t>http://www.tcl.tk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6705720" y="439560"/>
            <a:ext cx="433440" cy="417600"/>
            <a:chOff x="6705720" y="439560"/>
            <a:chExt cx="433440" cy="417600"/>
          </a:xfrm>
        </p:grpSpPr>
        <p:sp>
          <p:nvSpPr>
            <p:cNvPr id="201" name=""/>
            <p:cNvSpPr/>
            <p:nvPr/>
          </p:nvSpPr>
          <p:spPr>
            <a:xfrm>
              <a:off x="6931080" y="5612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81012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>
              <a:off x="680976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75828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675756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757560" y="631080"/>
              <a:ext cx="31212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705720" y="559440"/>
              <a:ext cx="433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at SourceForg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ourceForge provides a wealth of services for open source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Bug and patch data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Mailing 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CVS reposi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Web 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anaged by TCT and Tcl/Tk maintain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Not the Tcl Developer X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@ ActiveStat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State established 199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ed Open Sourc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to be Perl specif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ll known ActivePerl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ed Python and XML/XSLT expertise in 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eff Hobbs hired in Feb 2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reas Kupries follows soon af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knowledgeable Tcl’ers on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alth of scripting knowledge at Active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tiveState and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State provides the Tcl community with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ments to open source Tcl c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st of the Tcl Developer X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ercial support infra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66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ff"/>
                </a:solidFill>
                <a:uFillTx/>
                <a:latin typeface="Arial"/>
              </a:rPr>
              <a:t>http://www.ActiveState.com/TclDirect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fessional services for Tcl (TclDirec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 quality development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ive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PN Tcl (Tcl Dev Kit + Komodo ID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66ff"/>
                </a:solidFill>
                <a:uFillTx/>
                <a:latin typeface="Arial"/>
              </a:rPr>
              <a:t>http://www.ActiveState.com/Tcl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tiveTcl 8.4.3.0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the 8.4.3 Tcl 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hanced with many popular exten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incr Tcl], TclX, expect, tcllib, Bwidgets, iwidgets, tktable, tkc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tandard batteries-included distribution for Tcl us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for Win, Lin, Sol, HP-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repository (still) in the wo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 Developer Xchang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tdx-may2003" descr=""/>
          <p:cNvPicPr/>
          <p:nvPr/>
        </p:nvPicPr>
        <p:blipFill>
          <a:blip r:embed="rId1"/>
          <a:stretch/>
        </p:blipFill>
        <p:spPr>
          <a:xfrm>
            <a:off x="1000080" y="990720"/>
            <a:ext cx="7229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e (Active) State of Tc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cl’Europe 20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reas Kup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 Cookbook on ASP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ASPN_Tcl_Cookbook" descr=""/>
          <p:cNvPicPr/>
          <p:nvPr/>
        </p:nvPicPr>
        <p:blipFill>
          <a:blip r:embed="rId1"/>
          <a:stretch/>
        </p:blipFill>
        <p:spPr>
          <a:xfrm>
            <a:off x="1143000" y="1192320"/>
            <a:ext cx="6934320" cy="52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– Professional Tcl bund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ed December 20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 Dev Kit (based on TclPr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omodo Pro 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fari Bookshelf online boo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23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24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25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Tcl Dev Ki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-launched TclPro as updated commercial quality “Tcl Dev Kit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bugg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source-level debugger with GU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find errors without running app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lApp (Wrapper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reate self-contained applications for dis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il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protect your source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29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30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31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Tcl Dev Ki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and enhanced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vera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overage and hot-spot analysis built into the Debug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lSv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reate and manage Tcl scripts as Windows NT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lAp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rewrite of the wrapper based on VFS and starkit archit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pect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runtime Tcl application browser to complement the Debug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hanced features and UIs for original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35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36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37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Komodo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fessional IDE for scripting langu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essional IDE 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ght integration with Tcl Dev K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que Tcl editing 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Tk GUI Buil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-platform (Windows &amp; Linu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supports Perl, Python, PHP, XSLT and m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mos to fol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1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2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43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Komodo ID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komodo" descr=""/>
          <p:cNvPicPr/>
          <p:nvPr/>
        </p:nvPicPr>
        <p:blipFill>
          <a:blip r:embed="rId1"/>
          <a:stretch/>
        </p:blipFill>
        <p:spPr>
          <a:xfrm>
            <a:off x="638280" y="1030320"/>
            <a:ext cx="7819920" cy="57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Futu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ing development of Tcl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 Dev Kit 2.6 released May 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hanced debugger with std channel inter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amped Inspector U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 Dev Kit 3.0 on the drawing bo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UI Builder v2 in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for many widgets 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nu buil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9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0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51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Plugi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lugin-may2003" descr=""/>
          <p:cNvPicPr/>
          <p:nvPr/>
        </p:nvPicPr>
        <p:blipFill>
          <a:blip r:embed="rId1"/>
          <a:stretch/>
        </p:blipFill>
        <p:spPr>
          <a:xfrm>
            <a:off x="4343400" y="2984400"/>
            <a:ext cx="4495680" cy="3416400"/>
          </a:xfrm>
          <a:prstGeom prst="rect">
            <a:avLst/>
          </a:prstGeom>
          <a:ln w="0">
            <a:noFill/>
          </a:ln>
        </p:spPr>
      </p:pic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’s baaaaaack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for IE6 and latest NPAPI brows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ill in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3.0 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s 8.4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ips with TD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istribu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In the Community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 Tcl’ers Wiki has increased in activ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wiki.tcl.t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Now with interactive ch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 Tcl Developer Xchange official UR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www.tcl.t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tcl.ActiveState.com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l-URL! continues to provide weekly new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www.ddj.com/topics/tclur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Or subscribe to </a:t>
            </a:r>
            <a:r>
              <a:rPr b="0" lang="en-CA" sz="2000" spc="-1" strike="noStrike" u="sng">
                <a:solidFill>
                  <a:srgbClr val="0066ff"/>
                </a:solidFill>
                <a:uFillTx/>
                <a:latin typeface="Arial"/>
              </a:rPr>
              <a:t>tcl-announce@listserv.activestate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Lots of extension upd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701680" y="2021040"/>
            <a:ext cx="27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heck out the wiki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/Tk Toda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wnload rate stead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: 5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x: 4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: 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4 now considered the stable ver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virtual file system (VF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performance enhanc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d locale support in T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rts now exist for Windows/CE and Pal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564160" y="1447920"/>
            <a:ext cx="3289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eTcl downloa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poi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2x ActivePython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~1/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ctivePerl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has happened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ments in the Tcl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ments of the Tcl/Tk 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ture dir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8.4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4.3 released May 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4 added spinbox, labelframe, panedwindow widg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ral core feature enhanc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FS, lset, command trac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gnificant work on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+% performance improvement over 8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ar or better than 8.0, but now unicode aware and thread-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4-bit integer and file-syste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8.4 (cont.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book4cover_sm" descr=""/>
          <p:cNvPicPr/>
          <p:nvPr/>
        </p:nvPicPr>
        <p:blipFill>
          <a:blip r:embed="rId1"/>
          <a:stretch/>
        </p:blipFill>
        <p:spPr>
          <a:xfrm>
            <a:off x="5715000" y="2286000"/>
            <a:ext cx="3244680" cy="4319640"/>
          </a:xfrm>
          <a:prstGeom prst="rect">
            <a:avLst/>
          </a:prstGeom>
          <a:ln w="0">
            <a:noFill/>
          </a:ln>
        </p:spPr>
      </p:pic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widget have updated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ound buttons (simultaneous image and tex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ymmetric pad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books from Fly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Welch coming s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dated for 8.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/Tk 8.5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ly in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schedule not finaliz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ning Q4’03/Q1’04 fi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erous TIPs already targeting 8.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’ data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ed ‘expr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osals for more widg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unity input is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/Tk 9.0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he drawing board, but really just at the wishlist st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tionalize C AP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restructuring of Tcl level commands and global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OO / encapsulation features in the core (ensembl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 octal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ather improv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User Poll: Vers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s in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-8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5 (unreleas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ser Poll: Platform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/Deplo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intosh OS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intosh OS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ar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P-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unix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uture Direc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re is guided by community inp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one can write a T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one can be a core maintai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5 now in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.0 on the drawing bo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sues are most press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State will continue to work with the Tcl community and build more Tcl related produ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mos to fol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deas in the Pipelin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More) improved Tcl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archive file support (.jar/.zi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r source / binary distrib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l Instal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4-bit overha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modules shipped with core (ie: incr Tc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er, modular c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g &amp; Dr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 Tk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ing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k abstraction layer (Tk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gawidgets (roll your ow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Widg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 &amp; 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o Tcl Dev Kit &amp; Komodo demos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bout ActiveStat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ctiveState provides multi-language, cross-platform software &amp;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l, Perl, PHP, Python, XS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Linux, Solaris, Windows, HP-UX, AIX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Mission: Make Programming Eas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oftware development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High quality language distrib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Programmer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PureMessage email filtering gate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4648320" y="2400480"/>
            <a:ext cx="5950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0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istory of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52280" y="2666880"/>
            <a:ext cx="4572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09480" y="2666880"/>
            <a:ext cx="4572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066680" y="2666880"/>
            <a:ext cx="4827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47640" y="2666880"/>
            <a:ext cx="4572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000160" y="2666880"/>
            <a:ext cx="5144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502000" y="2666880"/>
            <a:ext cx="5140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495600" y="2666880"/>
            <a:ext cx="5428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105520" y="2666880"/>
            <a:ext cx="5331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28600" y="1714680"/>
            <a:ext cx="0" cy="952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6200000">
            <a:off x="1623960" y="1652400"/>
            <a:ext cx="228600" cy="3019320"/>
          </a:xfrm>
          <a:custGeom>
            <a:avLst/>
            <a:gdLst>
              <a:gd name="textAreaLeft" fmla="*/ 146160 w 228600"/>
              <a:gd name="textAreaRight" fmla="*/ 228960 w 228600"/>
              <a:gd name="textAreaTop" fmla="*/ 25560 h 3019320"/>
              <a:gd name="textAreaBottom" fmla="*/ 2993760 h 30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10210"/>
                </a:lnTo>
                <a:cubicBezTo>
                  <a:pt x="10800" y="10505"/>
                  <a:pt x="5400" y="10799"/>
                  <a:pt x="0" y="10799"/>
                </a:cubicBezTo>
                <a:cubicBezTo>
                  <a:pt x="5400" y="10799"/>
                  <a:pt x="10800" y="11094"/>
                  <a:pt x="10800" y="11388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1733400" y="3323880"/>
            <a:ext cx="0" cy="48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rot="16200000">
            <a:off x="4162320" y="2180880"/>
            <a:ext cx="228600" cy="1962000"/>
          </a:xfrm>
          <a:custGeom>
            <a:avLst/>
            <a:gdLst>
              <a:gd name="textAreaLeft" fmla="*/ 146160 w 228600"/>
              <a:gd name="textAreaRight" fmla="*/ 228960 w 228600"/>
              <a:gd name="textAreaTop" fmla="*/ 16560 h 1962000"/>
              <a:gd name="textAreaBottom" fmla="*/ 1945440 h 196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7029"/>
                </a:lnTo>
                <a:cubicBezTo>
                  <a:pt x="10800" y="7324"/>
                  <a:pt x="5400" y="7618"/>
                  <a:pt x="0" y="7618"/>
                </a:cubicBezTo>
                <a:cubicBezTo>
                  <a:pt x="5400" y="7618"/>
                  <a:pt x="10800" y="7913"/>
                  <a:pt x="10800" y="8207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3990960" y="3314880"/>
            <a:ext cx="0" cy="1714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0388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280" y="3809880"/>
            <a:ext cx="2667240" cy="10670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pen source distrib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om U.C. Berkele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sy GUIs under Un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nsible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09680" y="5029200"/>
            <a:ext cx="3629160" cy="1066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enhanced at Sun Microsystem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s, Macintosh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/Internet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va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352680" y="1295280"/>
            <a:ext cx="3048120" cy="838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form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olve and extend Tcl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development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0240" y="1181160"/>
            <a:ext cx="3170160" cy="8762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reated as general-purpose command/scripting language by John Ousterh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019320" y="2666880"/>
            <a:ext cx="4860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64984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03848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178680" y="2666880"/>
            <a:ext cx="5331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791320" y="4095720"/>
            <a:ext cx="270504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6649920" y="2971800"/>
            <a:ext cx="0" cy="1123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705720" y="2666880"/>
            <a:ext cx="5331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78168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553080" y="1143000"/>
            <a:ext cx="2416320" cy="914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6210360" y="2971800"/>
            <a:ext cx="368280" cy="44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495680" y="3419640"/>
            <a:ext cx="1949400" cy="571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523880" y="2400480"/>
            <a:ext cx="633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362320" y="2400480"/>
            <a:ext cx="64296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381480" y="2400480"/>
            <a:ext cx="5950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4 Ju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038480" y="2400480"/>
            <a:ext cx="5479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6 O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538960" y="2400480"/>
            <a:ext cx="5713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1 A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649840" y="3029040"/>
            <a:ext cx="59868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2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172200" y="2400480"/>
            <a:ext cx="5587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3 F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962840" y="251460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35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8275680" y="2590920"/>
            <a:ext cx="48564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23888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77240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174080" y="2400480"/>
            <a:ext cx="59832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4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458200" y="2409840"/>
            <a:ext cx="468360" cy="209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.0 ?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900920" y="3029040"/>
            <a:ext cx="468360" cy="209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5 ?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flipV="1">
            <a:off x="2971800" y="3276720"/>
            <a:ext cx="0" cy="860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06676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cent History of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92040" y="1666800"/>
            <a:ext cx="0" cy="130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6320" y="1057320"/>
            <a:ext cx="2590560" cy="6094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upport and services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52280" y="2971800"/>
            <a:ext cx="3029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00400" y="2971800"/>
            <a:ext cx="3029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90400" y="2590920"/>
            <a:ext cx="943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42920" y="4019400"/>
            <a:ext cx="1762200" cy="5526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1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1576440" y="3276360"/>
            <a:ext cx="0" cy="74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785960" y="1819440"/>
            <a:ext cx="187164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143160" y="4800600"/>
            <a:ext cx="17337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2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495680" y="32763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5715000" y="3276720"/>
            <a:ext cx="0" cy="371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934320" y="2838600"/>
            <a:ext cx="7596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7900920" y="6278400"/>
            <a:ext cx="1045800" cy="276480"/>
            <a:chOff x="7900920" y="6278400"/>
            <a:chExt cx="1045800" cy="276480"/>
          </a:xfrm>
        </p:grpSpPr>
        <p:sp>
          <p:nvSpPr>
            <p:cNvPr id="159" name=""/>
            <p:cNvSpPr/>
            <p:nvPr/>
          </p:nvSpPr>
          <p:spPr>
            <a:xfrm>
              <a:off x="7921800" y="627840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900920" y="627840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6248520" y="2971800"/>
            <a:ext cx="27018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41008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905120" y="3486240"/>
            <a:ext cx="9428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4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133720" y="414324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Pro 1.5 (De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951440" y="5505480"/>
            <a:ext cx="20019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Tcl Dev Kit 2.0 (Au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486400" y="3648240"/>
            <a:ext cx="1127160" cy="4950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.3.5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* 8.3 E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029200" y="221940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.0 S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5257800" y="3276360"/>
            <a:ext cx="0" cy="2228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224240" y="1495440"/>
            <a:ext cx="187164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Sep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6934320" y="3276360"/>
            <a:ext cx="0" cy="1447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705720" y="472428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3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705720" y="4334040"/>
            <a:ext cx="100476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85800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613560" y="1933560"/>
            <a:ext cx="20019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Tcl Dev Kit 2.6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068960" y="3543480"/>
            <a:ext cx="195120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July 29 – Aug 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7620120" y="3276360"/>
            <a:ext cx="0" cy="266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001000" y="2619360"/>
            <a:ext cx="7970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5 ?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Usag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l usage is still gro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extensively for mission-critical applic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sco, Motorola, Lucent, Nortel, etc.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mated hardware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ordinate different pieces of test equi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cl soon to be standard on all Cisco rou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L Digital City, Traveloc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ynamic Web cont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grate information from different 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ent developers are not program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Usage, Cont’d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mission-critical applic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B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gital broadcast control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x programming content, control transmission through satellites to local s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xa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d in animation tools (RenderMan softwar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chnical directors write Tcl scripts to animate charac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ell Oi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l-time control for offshore oil plat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ordinate, manage various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atus As of Tcl’Europe 2002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/Tk 8.3.4 was the stable ver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3 now base standard in Linux dist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.4b1 was just relea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ature frozen after 2 years in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ous enhancements and ad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Jeff Hobbs</cp:lastModifiedBy>
  <cp:lastPrinted>1999-01-02T23:07:33Z</cp:lastPrinted>
  <dcterms:modified xsi:type="dcterms:W3CDTF">2003-05-26T19:18:32Z</dcterms:modified>
  <cp:revision>409</cp:revision>
  <dc:subject/>
  <dc:title>Tcl'Europe 2003 State of Tcl</dc:title>
</cp:coreProperties>
</file>