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dt" idx="3"/>
          </p:nvPr>
        </p:nvSpPr>
        <p:spPr>
          <a:xfrm>
            <a:off x="3884760" y="-360"/>
            <a:ext cx="296064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Calibri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ldImg"/>
          </p:nvPr>
        </p:nvSpPr>
        <p:spPr>
          <a:xfrm>
            <a:off x="1142640" y="685800"/>
            <a:ext cx="4560840" cy="3417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524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4"/>
          </p:nvPr>
        </p:nvSpPr>
        <p:spPr>
          <a:xfrm>
            <a:off x="3884760" y="8685000"/>
            <a:ext cx="296064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Calibri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460351-D283-42FE-B11A-CF7B0CBD54A7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071A1F-71F4-4546-ABD0-2ADE88495CB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277E0D-20F9-4EB5-9BDA-FB659AEAFEB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0F37E6-1B21-48AF-A947-74A91582772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E6B45C-3F9C-41E4-885E-F09052678FF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C58EBD-752F-4DFD-855B-194A94409BC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3B5DBD-6BAA-4951-890A-33E1345C4EA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1143000" y="68580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1143000" y="68580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3787D7-41F0-4422-811D-C282C361A3E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77492E-11F9-4715-B488-F34FA99ABD1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247F5D-D88C-4B6A-8EE9-95D9E1A5D96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3D364E-45BE-4B63-B654-86B7A6A8A8C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BC1821-B339-4146-A54E-6989FBE91AF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A7CA0E-5CC4-4BF6-80C5-3F0DEC59285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143836-28B3-4584-858F-1199C718CF3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04DBD0-17D7-4138-8E4A-61BF7FAF127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ADCC67-B930-472A-A2D3-659949D5EFB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DBB7CF-AE04-459E-AFA5-1F8063BFD16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F8D56B-38F3-45D8-A9C4-B53B6CDB693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70C1F4-8DF6-4DA1-A7DD-EDE2FC4DFA2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FA5EB9-7C08-4B60-BFBB-5B2F862A665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660058-9BBB-4AF1-8F4E-913EF4EB4D0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6399D0-C50C-47FC-A8D6-9724403CB48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C14092-819E-407A-B184-2332CA69A5E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15EACB-3318-4A43-A629-DCB91F991A2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3EF690-704A-4FF3-9E75-7CD44807F78A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19E09C-CDA1-4452-B61E-280F4DBFB98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D3CC4E-2A8A-402A-AFA0-C75BA89CFD5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FD86B0-8FC3-4171-844A-C8A8D12C7FA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2EB047-DBBA-4B42-9D9C-6651CDBE1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7BDC69-42F8-4889-A948-0359E7C81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568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416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568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416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B4D2F7-AB62-4386-B7A5-677EE8AA7CD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2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ECF540-C5BB-4BFE-AED4-9117BF621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9AC223-0B56-4325-930E-D78C8CC2D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D278E7-FB26-4041-8A0D-654F816B6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E57CFA-DA46-4441-AF13-03D1467F3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18440" cy="660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62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D254A6-54BF-4613-8326-5A1EA707C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AB6912-3C69-41EC-AA17-9866B1D71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C360D2-2096-49C3-A31F-3B940AF30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D5DEFA-7D3B-494B-92CA-C3F03B399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1920" indent="-331920">
              <a:lnSpc>
                <a:spcPct val="6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1880" indent="-274680">
              <a:lnSpc>
                <a:spcPct val="6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6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6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6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6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6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2256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898989"/>
                </a:solidFill>
                <a:latin typeface="Calibri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  <a:ea typeface="DejaVu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08640"/>
            <a:ext cx="28958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2256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898989"/>
                </a:solidFill>
                <a:latin typeface="Calibri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BCAF4C-E6E8-48E9-AFFB-B2BF3BF33248}" type="slidenum">
              <a:rPr b="0" lang="en-GB" sz="1200" spc="-1" strike="noStrike">
                <a:solidFill>
                  <a:srgbClr val="898989"/>
                </a:solidFill>
                <a:latin typeface="Calibri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exTk/NtkWidge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A replacement for Tk ?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tructure of ntkWidg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/>
          <p:nvPr/>
        </p:nvSpPr>
        <p:spPr>
          <a:xfrm>
            <a:off x="500040" y="5786280"/>
            <a:ext cx="1285920" cy="8733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X11-Serv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unix/linux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/>
          <p:nvPr/>
        </p:nvSpPr>
        <p:spPr>
          <a:xfrm>
            <a:off x="3786120" y="5857920"/>
            <a:ext cx="1285920" cy="8017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GDI-Libra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win32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/>
          <p:nvPr/>
        </p:nvSpPr>
        <p:spPr>
          <a:xfrm>
            <a:off x="7020000" y="5837400"/>
            <a:ext cx="1357200" cy="8222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X11-Serv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MacOS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/>
          <p:nvPr/>
        </p:nvSpPr>
        <p:spPr>
          <a:xfrm>
            <a:off x="500040" y="4429080"/>
            <a:ext cx="7858080" cy="5000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GLMWFW (Graphic Library Multi Window FrameWork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/>
          <p:nvPr/>
        </p:nvSpPr>
        <p:spPr>
          <a:xfrm>
            <a:off x="2714760" y="5143680"/>
            <a:ext cx="3429000" cy="428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openG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7" name=""/>
          <p:cNvCxnSpPr>
            <a:endCxn id="92" idx="0"/>
          </p:cNvCxnSpPr>
          <p:nvPr/>
        </p:nvCxnSpPr>
        <p:spPr>
          <a:xfrm>
            <a:off x="1143000" y="4573080"/>
            <a:ext cx="2160" cy="1213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8" name=""/>
          <p:cNvCxnSpPr>
            <a:endCxn id="94" idx="0"/>
          </p:cNvCxnSpPr>
          <p:nvPr/>
        </p:nvCxnSpPr>
        <p:spPr>
          <a:xfrm flipH="1">
            <a:off x="7698960" y="4571640"/>
            <a:ext cx="16560" cy="1266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9" name=""/>
          <p:cNvCxnSpPr>
            <a:stCxn id="96" idx="2"/>
            <a:endCxn id="93" idx="0"/>
          </p:cNvCxnSpPr>
          <p:nvPr/>
        </p:nvCxnSpPr>
        <p:spPr>
          <a:xfrm>
            <a:off x="4428720" y="5572080"/>
            <a:ext cx="2520" cy="28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5" idx="2"/>
            <a:endCxn id="96" idx="0"/>
          </p:cNvCxnSpPr>
          <p:nvPr/>
        </p:nvCxnSpPr>
        <p:spPr>
          <a:xfrm>
            <a:off x="4428720" y="4929120"/>
            <a:ext cx="2520" cy="21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endCxn id="93" idx="1"/>
          </p:cNvCxnSpPr>
          <p:nvPr/>
        </p:nvCxnSpPr>
        <p:spPr>
          <a:xfrm>
            <a:off x="999720" y="4572000"/>
            <a:ext cx="2786760" cy="168840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2" name=""/>
          <p:cNvSpPr/>
          <p:nvPr/>
        </p:nvSpPr>
        <p:spPr>
          <a:xfrm>
            <a:off x="3606840" y="3600360"/>
            <a:ext cx="1614600" cy="5716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megaimag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/>
          <p:nvPr/>
        </p:nvSpPr>
        <p:spPr>
          <a:xfrm>
            <a:off x="5429160" y="2857680"/>
            <a:ext cx="128592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freetyp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/>
          <p:nvPr/>
        </p:nvSpPr>
        <p:spPr>
          <a:xfrm>
            <a:off x="3786120" y="2857680"/>
            <a:ext cx="128592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rend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/>
          <p:nvPr/>
        </p:nvSpPr>
        <p:spPr>
          <a:xfrm>
            <a:off x="3786120" y="2071800"/>
            <a:ext cx="128592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gri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/>
          <p:nvPr/>
        </p:nvSpPr>
        <p:spPr>
          <a:xfrm>
            <a:off x="3786120" y="1285920"/>
            <a:ext cx="128592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utt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/>
          <p:nvPr/>
        </p:nvSpPr>
        <p:spPr>
          <a:xfrm>
            <a:off x="5357880" y="1285920"/>
            <a:ext cx="128592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ent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/>
          <p:nvPr/>
        </p:nvSpPr>
        <p:spPr>
          <a:xfrm>
            <a:off x="2214720" y="1285920"/>
            <a:ext cx="128556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lab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/>
          <p:nvPr/>
        </p:nvSpPr>
        <p:spPr>
          <a:xfrm>
            <a:off x="6929280" y="1285920"/>
            <a:ext cx="128592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/>
          <p:nvPr/>
        </p:nvSpPr>
        <p:spPr>
          <a:xfrm>
            <a:off x="642960" y="1285920"/>
            <a:ext cx="128592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1" name=""/>
          <p:cNvCxnSpPr>
            <a:stCxn id="102" idx="2"/>
            <a:endCxn id="95" idx="0"/>
          </p:cNvCxnSpPr>
          <p:nvPr/>
        </p:nvCxnSpPr>
        <p:spPr>
          <a:xfrm>
            <a:off x="4413240" y="4172040"/>
            <a:ext cx="16560" cy="2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4" idx="2"/>
            <a:endCxn id="102" idx="0"/>
          </p:cNvCxnSpPr>
          <p:nvPr/>
        </p:nvCxnSpPr>
        <p:spPr>
          <a:xfrm flipH="1">
            <a:off x="4412880" y="3429000"/>
            <a:ext cx="15120" cy="17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3" name=""/>
          <p:cNvCxnSpPr/>
          <p:nvPr/>
        </p:nvCxnSpPr>
        <p:spPr>
          <a:xfrm flipH="1">
            <a:off x="4428360" y="2643120"/>
            <a:ext cx="2520" cy="21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4" name=""/>
          <p:cNvCxnSpPr/>
          <p:nvPr/>
        </p:nvCxnSpPr>
        <p:spPr>
          <a:xfrm flipH="1">
            <a:off x="4428360" y="1857240"/>
            <a:ext cx="2520" cy="21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03" idx="1"/>
            <a:endCxn id="104" idx="3"/>
          </p:cNvCxnSpPr>
          <p:nvPr/>
        </p:nvCxnSpPr>
        <p:spPr>
          <a:xfrm flipH="1">
            <a:off x="5071680" y="3142800"/>
            <a:ext cx="35784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08" idx="2"/>
            <a:endCxn id="105" idx="1"/>
          </p:cNvCxnSpPr>
          <p:nvPr/>
        </p:nvCxnSpPr>
        <p:spPr>
          <a:xfrm>
            <a:off x="2857320" y="1856880"/>
            <a:ext cx="929160" cy="50076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7" name=""/>
          <p:cNvCxnSpPr>
            <a:stCxn id="107" idx="2"/>
            <a:endCxn id="105" idx="3"/>
          </p:cNvCxnSpPr>
          <p:nvPr/>
        </p:nvCxnSpPr>
        <p:spPr>
          <a:xfrm flipV="1" rot="10800000">
            <a:off x="5071320" y="1856880"/>
            <a:ext cx="929520" cy="500760"/>
          </a:xfrm>
          <a:prstGeom prst="bentConnector3">
            <a:avLst>
              <a:gd name="adj1" fmla="val 49980"/>
            </a:avLst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8" name=""/>
          <p:cNvCxnSpPr>
            <a:stCxn id="96" idx="1"/>
            <a:endCxn id="92" idx="0"/>
          </p:cNvCxnSpPr>
          <p:nvPr/>
        </p:nvCxnSpPr>
        <p:spPr>
          <a:xfrm flipH="1">
            <a:off x="1142640" y="5357880"/>
            <a:ext cx="1572480" cy="429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96" idx="3"/>
            <a:endCxn id="94" idx="0"/>
          </p:cNvCxnSpPr>
          <p:nvPr/>
        </p:nvCxnSpPr>
        <p:spPr>
          <a:xfrm>
            <a:off x="6143400" y="5357880"/>
            <a:ext cx="1556280" cy="480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Building Tk like widge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Widget parts are for example: window, border, text, scrollba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Every widget part is an image (a rectangle, a polygon, a text)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Widget parts are put together using blending functions (megaimage)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ransparency (alpha factor) is taken care of during blend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he root window is also a widget/image which is handled during blend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Rendering of a widget (label)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/>
          <p:nvPr/>
        </p:nvSpPr>
        <p:spPr>
          <a:xfrm>
            <a:off x="1071720" y="1357200"/>
            <a:ext cx="1571400" cy="5716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op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/>
          <p:nvPr/>
        </p:nvSpPr>
        <p:spPr>
          <a:xfrm>
            <a:off x="1071720" y="2357280"/>
            <a:ext cx="1571400" cy="500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ackgrou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/>
          <p:nvPr/>
        </p:nvSpPr>
        <p:spPr>
          <a:xfrm>
            <a:off x="3143160" y="3286080"/>
            <a:ext cx="1571760" cy="5000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Label 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/>
          <p:nvPr/>
        </p:nvSpPr>
        <p:spPr>
          <a:xfrm>
            <a:off x="1928880" y="1928880"/>
            <a:ext cx="484200" cy="42840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/>
          <p:nvPr/>
        </p:nvSpPr>
        <p:spPr>
          <a:xfrm>
            <a:off x="4000680" y="2857680"/>
            <a:ext cx="483840" cy="42840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/>
          <p:nvPr/>
        </p:nvSpPr>
        <p:spPr>
          <a:xfrm>
            <a:off x="3143160" y="2357280"/>
            <a:ext cx="1571760" cy="500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ackgrou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/>
          <p:nvPr/>
        </p:nvSpPr>
        <p:spPr>
          <a:xfrm>
            <a:off x="2643120" y="2428920"/>
            <a:ext cx="478080" cy="4842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/>
          <p:nvPr/>
        </p:nvSpPr>
        <p:spPr>
          <a:xfrm>
            <a:off x="1214280" y="1928880"/>
            <a:ext cx="484200" cy="4064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/>
          <p:nvPr/>
        </p:nvSpPr>
        <p:spPr>
          <a:xfrm>
            <a:off x="3286080" y="2857680"/>
            <a:ext cx="484200" cy="4060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1714680" y="4286160"/>
            <a:ext cx="2071440" cy="1357560"/>
            <a:chOff x="1714680" y="4286160"/>
            <a:chExt cx="2071440" cy="1357560"/>
          </a:xfrm>
        </p:grpSpPr>
        <p:sp>
          <p:nvSpPr>
            <p:cNvPr id="133" name=""/>
            <p:cNvSpPr/>
            <p:nvPr/>
          </p:nvSpPr>
          <p:spPr>
            <a:xfrm>
              <a:off x="2214720" y="5214960"/>
              <a:ext cx="1571400" cy="42876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Right border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071880" y="4786200"/>
              <a:ext cx="484200" cy="428760"/>
            </a:xfrm>
            <a:prstGeom prst="up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214720" y="4286160"/>
              <a:ext cx="1571400" cy="50004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Backgroun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714680" y="4286160"/>
              <a:ext cx="477720" cy="48420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357280" y="4786200"/>
              <a:ext cx="484200" cy="40644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4714920" y="2428920"/>
            <a:ext cx="2071800" cy="1357200"/>
            <a:chOff x="4714920" y="2428920"/>
            <a:chExt cx="2071800" cy="1357200"/>
          </a:xfrm>
        </p:grpSpPr>
        <p:sp>
          <p:nvSpPr>
            <p:cNvPr id="139" name=""/>
            <p:cNvSpPr/>
            <p:nvPr/>
          </p:nvSpPr>
          <p:spPr>
            <a:xfrm>
              <a:off x="5214960" y="3357720"/>
              <a:ext cx="1571760" cy="42840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Left border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072120" y="2928960"/>
              <a:ext cx="484200" cy="428760"/>
            </a:xfrm>
            <a:prstGeom prst="up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214960" y="2428920"/>
              <a:ext cx="1571760" cy="50004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Calibri"/>
                </a:rPr>
                <a:t>Ba</a:t>
              </a: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ckgroun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714920" y="2428920"/>
              <a:ext cx="477720" cy="48420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357880" y="2928960"/>
              <a:ext cx="484200" cy="40644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3786120" y="4286160"/>
            <a:ext cx="2071800" cy="1357560"/>
            <a:chOff x="3786120" y="4286160"/>
            <a:chExt cx="2071800" cy="1357560"/>
          </a:xfrm>
        </p:grpSpPr>
        <p:sp>
          <p:nvSpPr>
            <p:cNvPr id="145" name=""/>
            <p:cNvSpPr/>
            <p:nvPr/>
          </p:nvSpPr>
          <p:spPr>
            <a:xfrm>
              <a:off x="4286160" y="5214960"/>
              <a:ext cx="1571760" cy="42876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Top border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143680" y="4786200"/>
              <a:ext cx="483840" cy="428760"/>
            </a:xfrm>
            <a:prstGeom prst="up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86160" y="4286160"/>
              <a:ext cx="1571760" cy="50004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Backgroun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786120" y="4286160"/>
              <a:ext cx="478080" cy="48420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429080" y="4786200"/>
              <a:ext cx="484200" cy="40644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5857920" y="4286160"/>
            <a:ext cx="2071800" cy="1357560"/>
            <a:chOff x="5857920" y="4286160"/>
            <a:chExt cx="2071800" cy="1357560"/>
          </a:xfrm>
        </p:grpSpPr>
        <p:sp>
          <p:nvSpPr>
            <p:cNvPr id="151" name=""/>
            <p:cNvSpPr/>
            <p:nvPr/>
          </p:nvSpPr>
          <p:spPr>
            <a:xfrm>
              <a:off x="6357960" y="5214960"/>
              <a:ext cx="1571760" cy="42876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Bottom border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215120" y="4786200"/>
              <a:ext cx="484200" cy="428760"/>
            </a:xfrm>
            <a:prstGeom prst="up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357960" y="4286160"/>
              <a:ext cx="1571760" cy="50004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Backgroun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857920" y="4286160"/>
              <a:ext cx="477720" cy="48420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500880" y="4786200"/>
              <a:ext cx="484200" cy="40644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6786720" y="2428920"/>
            <a:ext cx="477720" cy="4842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"/>
          <p:cNvSpPr/>
          <p:nvPr/>
        </p:nvSpPr>
        <p:spPr>
          <a:xfrm>
            <a:off x="7215120" y="3857760"/>
            <a:ext cx="484200" cy="42840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tkWidget Hierarch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/>
          <p:nvPr/>
        </p:nvSpPr>
        <p:spPr>
          <a:xfrm>
            <a:off x="714240" y="1428840"/>
            <a:ext cx="164304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helpe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/>
          <p:nvPr/>
        </p:nvSpPr>
        <p:spPr>
          <a:xfrm>
            <a:off x="2714760" y="1428840"/>
            <a:ext cx="164304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rend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"/>
          <p:cNvSpPr/>
          <p:nvPr/>
        </p:nvSpPr>
        <p:spPr>
          <a:xfrm>
            <a:off x="2714760" y="2786040"/>
            <a:ext cx="164304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/>
          <p:nvPr/>
        </p:nvSpPr>
        <p:spPr>
          <a:xfrm>
            <a:off x="5759280" y="2814480"/>
            <a:ext cx="164340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gri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"/>
          <p:cNvSpPr/>
          <p:nvPr/>
        </p:nvSpPr>
        <p:spPr>
          <a:xfrm>
            <a:off x="2714760" y="4071960"/>
            <a:ext cx="164304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heme / ttk the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"/>
          <p:cNvSpPr/>
          <p:nvPr/>
        </p:nvSpPr>
        <p:spPr>
          <a:xfrm>
            <a:off x="4929120" y="1428840"/>
            <a:ext cx="164304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gridManag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"/>
          <p:cNvSpPr/>
          <p:nvPr/>
        </p:nvSpPr>
        <p:spPr>
          <a:xfrm>
            <a:off x="6858000" y="1428840"/>
            <a:ext cx="164304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gridDat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6" name=""/>
          <p:cNvCxnSpPr>
            <a:stCxn id="159" idx="2"/>
            <a:endCxn id="161" idx="1"/>
          </p:cNvCxnSpPr>
          <p:nvPr/>
        </p:nvCxnSpPr>
        <p:spPr>
          <a:xfrm>
            <a:off x="1534680" y="2214360"/>
            <a:ext cx="1180440" cy="9658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67" name=""/>
          <p:cNvCxnSpPr>
            <a:stCxn id="160" idx="2"/>
            <a:endCxn id="161" idx="0"/>
          </p:cNvCxnSpPr>
          <p:nvPr/>
        </p:nvCxnSpPr>
        <p:spPr>
          <a:xfrm>
            <a:off x="3537000" y="2214360"/>
            <a:ext cx="2160" cy="5720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68" name=""/>
          <p:cNvCxnSpPr>
            <a:stCxn id="164" idx="2"/>
            <a:endCxn id="162" idx="0"/>
          </p:cNvCxnSpPr>
          <p:nvPr/>
        </p:nvCxnSpPr>
        <p:spPr>
          <a:xfrm>
            <a:off x="5749920" y="2214720"/>
            <a:ext cx="830880" cy="600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69" name=""/>
          <p:cNvCxnSpPr>
            <a:stCxn id="165" idx="2"/>
            <a:endCxn id="162" idx="0"/>
          </p:cNvCxnSpPr>
          <p:nvPr/>
        </p:nvCxnSpPr>
        <p:spPr>
          <a:xfrm flipH="1">
            <a:off x="6579720" y="2214720"/>
            <a:ext cx="1099440" cy="600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70" name=""/>
          <p:cNvCxnSpPr>
            <a:stCxn id="161" idx="2"/>
            <a:endCxn id="163" idx="0"/>
          </p:cNvCxnSpPr>
          <p:nvPr/>
        </p:nvCxnSpPr>
        <p:spPr>
          <a:xfrm>
            <a:off x="3537000" y="3571560"/>
            <a:ext cx="2160" cy="50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71" name=""/>
          <p:cNvCxnSpPr>
            <a:stCxn id="163" idx="2"/>
            <a:endCxn id="172" idx="0"/>
          </p:cNvCxnSpPr>
          <p:nvPr/>
        </p:nvCxnSpPr>
        <p:spPr>
          <a:xfrm>
            <a:off x="3537000" y="4857840"/>
            <a:ext cx="2160" cy="429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73" name=""/>
          <p:cNvCxnSpPr>
            <a:stCxn id="162" idx="1"/>
            <a:endCxn id="161" idx="3"/>
          </p:cNvCxnSpPr>
          <p:nvPr/>
        </p:nvCxnSpPr>
        <p:spPr>
          <a:xfrm flipH="1" flipV="1">
            <a:off x="4357080" y="3177720"/>
            <a:ext cx="1402200" cy="29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72" name=""/>
          <p:cNvSpPr/>
          <p:nvPr/>
        </p:nvSpPr>
        <p:spPr>
          <a:xfrm>
            <a:off x="2714760" y="5286240"/>
            <a:ext cx="164304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utt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"/>
          <p:cNvSpPr/>
          <p:nvPr/>
        </p:nvSpPr>
        <p:spPr>
          <a:xfrm>
            <a:off x="5770440" y="5249880"/>
            <a:ext cx="1643040" cy="785880"/>
          </a:xfrm>
          <a:prstGeom prst="rect">
            <a:avLst/>
          </a:prstGeom>
          <a:solidFill>
            <a:srgbClr val="808080"/>
          </a:solidFill>
          <a:ln w="25560">
            <a:solidFill>
              <a:srgbClr val="83ca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pl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/>
          <p:nvPr/>
        </p:nvSpPr>
        <p:spPr>
          <a:xfrm>
            <a:off x="5759280" y="4073400"/>
            <a:ext cx="1643400" cy="785880"/>
          </a:xfrm>
          <a:prstGeom prst="rect">
            <a:avLst/>
          </a:prstGeom>
          <a:solidFill>
            <a:srgbClr val="80808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pa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6" name=""/>
          <p:cNvCxnSpPr>
            <a:endCxn id="161" idx="3"/>
          </p:cNvCxnSpPr>
          <p:nvPr/>
        </p:nvCxnSpPr>
        <p:spPr>
          <a:xfrm flipH="1" flipV="1">
            <a:off x="4357080" y="3177360"/>
            <a:ext cx="1402200" cy="131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77" name=""/>
          <p:cNvCxnSpPr>
            <a:endCxn id="161" idx="3"/>
          </p:cNvCxnSpPr>
          <p:nvPr/>
        </p:nvCxnSpPr>
        <p:spPr>
          <a:xfrm flipH="1" flipV="1">
            <a:off x="4357080" y="3177720"/>
            <a:ext cx="1402200" cy="2455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tkWidget base widge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/>
          <p:nvPr/>
        </p:nvSpPr>
        <p:spPr>
          <a:xfrm>
            <a:off x="3214800" y="128592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"/>
          <p:cNvSpPr/>
          <p:nvPr/>
        </p:nvSpPr>
        <p:spPr>
          <a:xfrm>
            <a:off x="3214800" y="228600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Check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"/>
          <p:cNvSpPr/>
          <p:nvPr/>
        </p:nvSpPr>
        <p:spPr>
          <a:xfrm>
            <a:off x="3214800" y="278604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Clo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"/>
          <p:cNvSpPr/>
          <p:nvPr/>
        </p:nvSpPr>
        <p:spPr>
          <a:xfrm>
            <a:off x="3214800" y="178596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utt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"/>
          <p:cNvSpPr/>
          <p:nvPr/>
        </p:nvSpPr>
        <p:spPr>
          <a:xfrm>
            <a:off x="3214800" y="328608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Ent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/>
          <p:nvPr/>
        </p:nvSpPr>
        <p:spPr>
          <a:xfrm>
            <a:off x="3214800" y="378612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Fra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"/>
          <p:cNvSpPr/>
          <p:nvPr/>
        </p:nvSpPr>
        <p:spPr>
          <a:xfrm>
            <a:off x="3214800" y="4286160"/>
            <a:ext cx="1643040" cy="4287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List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"/>
          <p:cNvSpPr/>
          <p:nvPr/>
        </p:nvSpPr>
        <p:spPr>
          <a:xfrm>
            <a:off x="3214800" y="485784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Men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"/>
          <p:cNvSpPr/>
          <p:nvPr/>
        </p:nvSpPr>
        <p:spPr>
          <a:xfrm>
            <a:off x="3214800" y="535788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"/>
          <p:cNvSpPr/>
          <p:nvPr/>
        </p:nvSpPr>
        <p:spPr>
          <a:xfrm>
            <a:off x="3214800" y="585792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op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172800"/>
            <a:ext cx="822816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tkWidget comman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::ntk toplevel [options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tk button [options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tk checkbox [options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tk clock [options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tk window [options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tk keyPress [options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tk mousePress [options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tk widgetImage [options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72800"/>
            <a:ext cx="822816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tkWidget code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"/>
          <p:cNvSpPr/>
          <p:nvPr/>
        </p:nvSpPr>
        <p:spPr>
          <a:xfrm>
            <a:off x="1160640" y="1260360"/>
            <a:ext cx="6848280" cy="53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package require ntkWidg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# set the root windows tit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::ntk::glmwfw::Glmwfw setWindowTitle $ntk::_win "NtkWidget Button Demo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proc flipName {win}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set name [$win cget -text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switch $name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Arnulf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$win configure -text Wiedeman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Wiedemann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$win configure -text Arnul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set rotate 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if {[llength $argv] &gt; 0}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set rotate [lindex $argv 0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set wPath [ntk button .w -width 100 -height 100 -xoffset 50 -yoffset 50 \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-text Arnulf -textcolor [list 0 0 0 255] -bd 2 -bg [list 255 255 255 255]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$wPath configure -command [list flipName $wPath] -rotate $rot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# pack the widget using ntkWidget grid manag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ntk grid $wPa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tk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"/>
          <p:cNvSpPr/>
          <p:nvPr/>
        </p:nvSpPr>
        <p:spPr>
          <a:xfrm>
            <a:off x="457200" y="1535040"/>
            <a:ext cx="40402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Default style Tbutton op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"/>
          <p:cNvSpPr/>
          <p:nvPr/>
        </p:nvSpPr>
        <p:spPr>
          <a:xfrm>
            <a:off x="45720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anchor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en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padding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[list 3 3]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width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relief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rais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shiftrelief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window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#fffff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frame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#d9d9d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disabledfg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#a3a3a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"/>
          <p:cNvSpPr/>
          <p:nvPr/>
        </p:nvSpPr>
        <p:spPr>
          <a:xfrm>
            <a:off x="4645080" y="1535040"/>
            <a:ext cx="40417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Clam style Tbutton op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"/>
          <p:cNvSpPr/>
          <p:nvPr/>
        </p:nvSpPr>
        <p:spPr>
          <a:xfrm>
            <a:off x="464508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anchor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en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padding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width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1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relief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rais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window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#fffff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frame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#cdad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disabledfg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#999999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tk layou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"/>
          <p:cNvSpPr/>
          <p:nvPr/>
        </p:nvSpPr>
        <p:spPr>
          <a:xfrm>
            <a:off x="457200" y="1535040"/>
            <a:ext cx="40402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Default layout TButt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"/>
          <p:cNvSpPr/>
          <p:nvPr/>
        </p:nvSpPr>
        <p:spPr>
          <a:xfrm>
            <a:off x="45720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Arial"/>
              </a:rPr>
              <a:t>Backgrou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Bord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Focusr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Padd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Arial"/>
              </a:rPr>
              <a:t>Focusr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Padd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"/>
          <p:cNvSpPr/>
          <p:nvPr/>
        </p:nvSpPr>
        <p:spPr>
          <a:xfrm>
            <a:off x="4645080" y="1535040"/>
            <a:ext cx="40417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Clam layout TButt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"/>
          <p:cNvSpPr/>
          <p:nvPr/>
        </p:nvSpPr>
        <p:spPr>
          <a:xfrm>
            <a:off x="4645080" y="2174760"/>
            <a:ext cx="4041720" cy="430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Backgrou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Bord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1880" indent="-274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Focusr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Padd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tk sta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"/>
          <p:cNvSpPr/>
          <p:nvPr/>
        </p:nvSpPr>
        <p:spPr>
          <a:xfrm>
            <a:off x="45720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"/>
          <p:cNvSpPr/>
          <p:nvPr/>
        </p:nvSpPr>
        <p:spPr>
          <a:xfrm>
            <a:off x="4645080" y="2174760"/>
            <a:ext cx="4041720" cy="42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"/>
          <p:cNvSpPr/>
          <p:nvPr/>
        </p:nvSpPr>
        <p:spPr>
          <a:xfrm>
            <a:off x="457200" y="1600200"/>
            <a:ext cx="8228160" cy="44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activ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alterna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backgrou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disabl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focu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inval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press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readonl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select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History of NexT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George Peter Staplin (GPS) started ~ 2 years ago with a system for handling widge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Original title Tk9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ame changed to NexT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tkWidget is based on NexT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tk style ma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"/>
          <p:cNvSpPr/>
          <p:nvPr/>
        </p:nvSpPr>
        <p:spPr>
          <a:xfrm>
            <a:off x="4645080" y="2174760"/>
            <a:ext cx="4041720" cy="42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"/>
          <p:cNvSpPr/>
          <p:nvPr/>
        </p:nvSpPr>
        <p:spPr>
          <a:xfrm>
            <a:off x="457200" y="1600200"/>
            <a:ext cx="8228160" cy="44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-background [list disabled #9d9d9d active #ececec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-foreground [list disabled #a3a3a3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-relief [list {pressed !disabled} sunken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tk theme nam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/>
          <p:nvPr/>
        </p:nvSpPr>
        <p:spPr>
          <a:xfrm>
            <a:off x="45720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"/>
          <p:cNvSpPr/>
          <p:nvPr/>
        </p:nvSpPr>
        <p:spPr>
          <a:xfrm>
            <a:off x="4645080" y="2174760"/>
            <a:ext cx="4041720" cy="42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"/>
          <p:cNvSpPr/>
          <p:nvPr/>
        </p:nvSpPr>
        <p:spPr>
          <a:xfrm>
            <a:off x="457200" y="1600200"/>
            <a:ext cx="8228160" cy="44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al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aqu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cla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classi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defaul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tk like featur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/>
          <p:nvPr/>
        </p:nvSpPr>
        <p:spPr>
          <a:xfrm>
            <a:off x="457200" y="1600200"/>
            <a:ext cx="8229600" cy="456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With ttk like features you c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1880" indent="-274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  <a:ea typeface="Arial"/>
              </a:rPr>
              <a:t>Determine the layout of a widget using a them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1880" indent="-274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  <a:ea typeface="Arial"/>
              </a:rPr>
              <a:t>Determine the style of a widget using a them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1880" indent="-274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  <a:ea typeface="Arial"/>
              </a:rPr>
              <a:t>Determine the look of a widget depending on the sta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1880" indent="-274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  <a:ea typeface="Arial"/>
              </a:rPr>
              <a:t>No need to change the widget cod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1880" indent="-274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  <a:ea typeface="Arial"/>
              </a:rPr>
              <a:t>Different look and feel on platforms dependent on default layout for the platfor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tkWidget andTtk like featur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"/>
          <p:cNvSpPr/>
          <p:nvPr/>
        </p:nvSpPr>
        <p:spPr>
          <a:xfrm>
            <a:off x="457200" y="1600200"/>
            <a:ext cx="8229600" cy="456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The currently used theme class in ntkWidget will be replaced by the ttk like featur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The mechanisms used in Ttk are very similar to the mechanisms used in ntkWidget (widget parts -&gt; layout)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The currently used methods in the ntkWidget theme class can be modified to handle styl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The rendering can be easily adapted to handle layou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The rendering will be enhanced to handle stat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tcl-ng addons for ntkWidg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methodvari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op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elegate metho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elegate pro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elegate op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tk and ntkWidg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why not use itk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epending on Archetyp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nheritance of op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strange option handling of inherited op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epending on T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o support of themes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tatu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exTk and ntkWidget are work in progr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exTk and ntkWidget developers are working toget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here exist demos for NexT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here exist small demos for ntkWidget (without ttk like themes)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clu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exTk and ntkWidget could be both a replacement for Tk in the futu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A huge amount of work to be done before usable as replacement for T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ewer technology, easier to maintain code bas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Additional developpers would speed up implementa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Will be incompatible to Tk on some plac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tkWidget „hello world“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"/>
          <p:cNvSpPr/>
          <p:nvPr/>
        </p:nvSpPr>
        <p:spPr>
          <a:xfrm>
            <a:off x="1160640" y="1440000"/>
            <a:ext cx="6848280" cy="48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Now it is time for some small demo exampl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rchitecture of T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Based on X11, support for windows and MacOS a lot of years la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Basic widgets are implemented completely in 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Widget parts are built and displayed using X11 (client-)funct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Use of system fon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Options for widgets are additionally using an option databas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Geometry managers: grid, pack and plac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o alpha blending, no free rotation of tex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tructure of T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/>
          <p:nvPr/>
        </p:nvSpPr>
        <p:spPr>
          <a:xfrm>
            <a:off x="928800" y="5429160"/>
            <a:ext cx="1285920" cy="8575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X1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unix/linux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/>
          <p:nvPr/>
        </p:nvSpPr>
        <p:spPr>
          <a:xfrm>
            <a:off x="3929040" y="5429160"/>
            <a:ext cx="1285920" cy="8575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PI a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GDI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windows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/>
          <p:nvPr/>
        </p:nvSpPr>
        <p:spPr>
          <a:xfrm>
            <a:off x="7000920" y="5429160"/>
            <a:ext cx="1285920" cy="8575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X11/nativ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MacOS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/>
          <p:nvPr/>
        </p:nvSpPr>
        <p:spPr>
          <a:xfrm>
            <a:off x="857160" y="2928960"/>
            <a:ext cx="121464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Ent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Widg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C-code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/>
          <p:nvPr/>
        </p:nvSpPr>
        <p:spPr>
          <a:xfrm>
            <a:off x="3929040" y="4214880"/>
            <a:ext cx="1285920" cy="8571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k Ba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Lay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C-code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/>
          <p:nvPr/>
        </p:nvSpPr>
        <p:spPr>
          <a:xfrm>
            <a:off x="3929040" y="2928960"/>
            <a:ext cx="128592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utt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Widg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C-code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/>
          <p:nvPr/>
        </p:nvSpPr>
        <p:spPr>
          <a:xfrm>
            <a:off x="6929280" y="3000240"/>
            <a:ext cx="121464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Widg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C-code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/>
          <p:nvPr/>
        </p:nvSpPr>
        <p:spPr>
          <a:xfrm>
            <a:off x="857160" y="1643040"/>
            <a:ext cx="121464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Ent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Widg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Tcl-code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/>
          <p:nvPr/>
        </p:nvSpPr>
        <p:spPr>
          <a:xfrm>
            <a:off x="3929040" y="1643040"/>
            <a:ext cx="128592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utt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Widg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Tcl-code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/>
          <p:nvPr/>
        </p:nvSpPr>
        <p:spPr>
          <a:xfrm>
            <a:off x="6929280" y="1714680"/>
            <a:ext cx="121464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Widg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Tcl-code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2" name=""/>
          <p:cNvCxnSpPr>
            <a:stCxn id="66" idx="1"/>
            <a:endCxn id="62" idx="0"/>
          </p:cNvCxnSpPr>
          <p:nvPr/>
        </p:nvCxnSpPr>
        <p:spPr>
          <a:xfrm flipV="1" rot="10800000">
            <a:off x="1571040" y="4642920"/>
            <a:ext cx="2358000" cy="786600"/>
          </a:xfrm>
          <a:prstGeom prst="bentConnector3">
            <a:avLst>
              <a:gd name="adj1" fmla="val 49992"/>
            </a:avLst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73" name=""/>
          <p:cNvCxnSpPr>
            <a:stCxn id="66" idx="3"/>
            <a:endCxn id="64" idx="0"/>
          </p:cNvCxnSpPr>
          <p:nvPr/>
        </p:nvCxnSpPr>
        <p:spPr>
          <a:xfrm>
            <a:off x="5214600" y="4642920"/>
            <a:ext cx="2429640" cy="78660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66" idx="2"/>
            <a:endCxn id="63" idx="0"/>
          </p:cNvCxnSpPr>
          <p:nvPr/>
        </p:nvCxnSpPr>
        <p:spPr>
          <a:xfrm>
            <a:off x="4572000" y="5072040"/>
            <a:ext cx="2160" cy="357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8" idx="2"/>
            <a:endCxn id="66" idx="0"/>
          </p:cNvCxnSpPr>
          <p:nvPr/>
        </p:nvCxnSpPr>
        <p:spPr>
          <a:xfrm flipH="1">
            <a:off x="4571280" y="3914640"/>
            <a:ext cx="2964600" cy="300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65" idx="2"/>
            <a:endCxn id="66" idx="0"/>
          </p:cNvCxnSpPr>
          <p:nvPr/>
        </p:nvCxnSpPr>
        <p:spPr>
          <a:xfrm>
            <a:off x="1465200" y="3843360"/>
            <a:ext cx="3108960" cy="372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7" idx="2"/>
            <a:endCxn id="66" idx="0"/>
          </p:cNvCxnSpPr>
          <p:nvPr/>
        </p:nvCxnSpPr>
        <p:spPr>
          <a:xfrm>
            <a:off x="4572000" y="3843360"/>
            <a:ext cx="2160" cy="372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78" name=""/>
          <p:cNvCxnSpPr/>
          <p:nvPr/>
        </p:nvCxnSpPr>
        <p:spPr>
          <a:xfrm flipH="1">
            <a:off x="1428480" y="2571840"/>
            <a:ext cx="2160" cy="372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79" name=""/>
          <p:cNvCxnSpPr/>
          <p:nvPr/>
        </p:nvCxnSpPr>
        <p:spPr>
          <a:xfrm flipH="1">
            <a:off x="4571640" y="2571840"/>
            <a:ext cx="2160" cy="372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80" name=""/>
          <p:cNvCxnSpPr/>
          <p:nvPr/>
        </p:nvCxnSpPr>
        <p:spPr>
          <a:xfrm flipH="1">
            <a:off x="7500600" y="2643120"/>
            <a:ext cx="2160" cy="372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rchitecture of NexTk (1)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/>
          <p:nvPr/>
        </p:nvSpPr>
        <p:spPr>
          <a:xfrm>
            <a:off x="457200" y="1600200"/>
            <a:ext cx="8229600" cy="51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Widgets und widget parts are built as imag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Widget code is Tcl cod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Images are built using megimage funct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Freetpyeext for fonts/tex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Geometry managers: grid, pack(planned), place(planned)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With alpha blending, with free text rota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mponents of NexT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/>
          <p:nvPr/>
        </p:nvSpPr>
        <p:spPr>
          <a:xfrm>
            <a:off x="457200" y="1600200"/>
            <a:ext cx="8229600" cy="51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megaimage: pixel image and blending func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freetypeext: extension of freetype fonts for building text images and rotating tex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objstructure: extension for building simple objec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tk: the collection of Tcl code building the base widge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rchitecture of NexTk (2)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/>
          <p:nvPr/>
        </p:nvSpPr>
        <p:spPr>
          <a:xfrm>
            <a:off x="457200" y="1600200"/>
            <a:ext cx="8229600" cy="51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Every pixel consists of 4 bytes r/g/b and alph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tk package is handling root windows and mouse and key ev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Use of openGL for display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Running on linux and win32 at the mo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rchitecture of ntkWidget (1)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Based mostly on NexTk with the following differenc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Use of itcl instead of objstructure and use of ntkWidgetImage instead of megaimag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Use of GLMWFW (</a:t>
            </a: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G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raphic </a:t>
            </a: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L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ibrary </a:t>
            </a: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ulti </a:t>
            </a: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W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indow </a:t>
            </a: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rame</a:t>
            </a: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W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ork) as common platform independent base for handling root windows and mouse/key even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Widget parts are constructed using itcl-ng classes with inheritance instead of objstructu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rchitecture of ntkWidget (2)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n the future: use of ttk(tile) like architecture for handling themes (also using itcl-ng classes)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tk like theme handling implemented about 70%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amespace ensemble subcommands for the functionality, so no need to learn itcl for users of the pack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Linux only at the moment (no development environment for windows MacOS)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rnulf Wiedemann</dc:creator>
  <dc:description/>
  <dc:language>en-US</dc:language>
  <cp:lastModifiedBy> </cp:lastModifiedBy>
  <cp:revision>0</cp:revision>
  <dc:subject/>
  <dc:title>NtkWidget </dc:title>
</cp:coreProperties>
</file>