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8A4C-D86E-42C6-9B15-A83AE0845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796D-021A-43F9-B766-A743CD403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8E3B-D781-418D-AD37-B9B8AA1F2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5BC3-6253-458B-AF03-055BCEA18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150503-987C-4F35-B01E-C447DBC4AB8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01F83E-1854-4D3E-AA2B-5AA17011F92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145E7A-5274-4860-9AA2-EC456F46564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6FAA4A-4DE1-4676-84F9-06D8E9A173A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4621E4-E8B1-4D64-A7D8-56C785BC07D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CEBB4C-667A-4376-940E-1137432B4F3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155FF5-EF86-41D7-BACC-4972C8E9480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BF88-20C5-4AB8-AEEE-376C581FA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E8DAF0-D842-4669-BDBF-7D29AFB26D3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7D1E23-E1E8-46EB-8312-4975BD2E9F7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F9A8D1-2A99-4AE0-8EB4-63F88453642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69ADE3-90CA-4671-BF90-49BEE83E783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5168C2-86E1-49D1-883E-17A82F24303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1355-2B44-46C3-8026-83F2B8E6E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D5B1-73A8-4244-8640-002B106EC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5E88-B629-4C89-8CC7-92C0B8515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18C7-87D8-44D9-B04E-15F3C4C19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E62B-486E-472D-966B-C4930AB4B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3E2E-1B63-45D7-B653-17C170BCA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A200-1707-4243-8703-F5CDF10FE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B4881-3C44-4B80-8D81-4D051BC274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059680" y="76320"/>
            <a:ext cx="998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8C7C5-FD4E-4F01-A3B3-CC17402E3D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145360" y="2209680"/>
            <a:ext cx="998640" cy="129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iki.tcl.tk/3099.html" TargetMode="External"/><Relationship Id="rId2" Type="http://schemas.openxmlformats.org/officeDocument/2006/relationships/hyperlink" Target="http://wiki.tcl.tk/3099.html" TargetMode="External"/><Relationship Id="rId3" Type="http://schemas.openxmlformats.org/officeDocument/2006/relationships/hyperlink" Target="http://wiki.tcl.tk/3099.html" TargetMode="External"/><Relationship Id="rId4" Type="http://schemas.openxmlformats.org/officeDocument/2006/relationships/hyperlink" Target="http://wiki.tcl.tk/3099.html" TargetMode="External"/><Relationship Id="rId5" Type="http://schemas.openxmlformats.org/officeDocument/2006/relationships/hyperlink" Target="http://wiki.tcl.tk/3099.html" TargetMode="External"/><Relationship Id="rId6" Type="http://schemas.openxmlformats.org/officeDocument/2006/relationships/hyperlink" Target="http://wiki.tcl.tk/3099.html" TargetMode="External"/><Relationship Id="rId7" Type="http://schemas.openxmlformats.org/officeDocument/2006/relationships/hyperlink" Target="http://wiki.tcl.tk/3099.html" TargetMode="External"/><Relationship Id="rId8" Type="http://schemas.openxmlformats.org/officeDocument/2006/relationships/hyperlink" Target="http://www.tcl.tk/man/tcl8.4/" TargetMode="External"/><Relationship Id="rId9" Type="http://schemas.openxmlformats.org/officeDocument/2006/relationships/hyperlink" Target="http://www.tcl.tk/man/tcl8.4/" TargetMode="External"/><Relationship Id="rId10" Type="http://schemas.openxmlformats.org/officeDocument/2006/relationships/hyperlink" Target="http://www.tcl.tk/man/tcl8.4/" TargetMode="External"/><Relationship Id="rId11" Type="http://schemas.openxmlformats.org/officeDocument/2006/relationships/hyperlink" Target="http://www.tcl.tk/man/tcl8.4/" TargetMode="External"/><Relationship Id="rId12" Type="http://schemas.openxmlformats.org/officeDocument/2006/relationships/hyperlink" Target="http://www.tcl.tk/man/tcl8.4/" TargetMode="External"/><Relationship Id="rId1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tcl.tk/cgi-bin/tct/tip/" TargetMode="External"/><Relationship Id="rId2" Type="http://schemas.openxmlformats.org/officeDocument/2006/relationships/hyperlink" Target="http://www.tcl.tk/cgi-bin/tct/tip/" TargetMode="External"/><Relationship Id="rId3" Type="http://schemas.openxmlformats.org/officeDocument/2006/relationships/hyperlink" Target="http://www.tcl.tk/cgi-bin/tct/tip/" TargetMode="External"/><Relationship Id="rId4" Type="http://schemas.openxmlformats.org/officeDocument/2006/relationships/hyperlink" Target="http://www.tcl.tk/cgi-bin/tct/tip/" TargetMode="External"/><Relationship Id="rId5" Type="http://schemas.openxmlformats.org/officeDocument/2006/relationships/hyperlink" Target="http://www.tcl.tk/cgi-bin/tct/tip/" TargetMode="External"/><Relationship Id="rId6" Type="http://schemas.openxmlformats.org/officeDocument/2006/relationships/hyperlink" Target="http://www.tcl.tk/cgi-bin/tct/tip/" TargetMode="External"/><Relationship Id="rId7" Type="http://schemas.openxmlformats.org/officeDocument/2006/relationships/hyperlink" Target="http://www.tcl.tk/cgi-bin/tct/tip/" TargetMode="External"/><Relationship Id="rId8" Type="http://schemas.openxmlformats.org/officeDocument/2006/relationships/hyperlink" Target="http://www.tcl.tk/cgi-bin/tct/tip/" TargetMode="External"/><Relationship Id="rId9" Type="http://schemas.openxmlformats.org/officeDocument/2006/relationships/hyperlink" Target="http://www.tcl.tk/cgi-bin/tct/tip/" TargetMode="External"/><Relationship Id="rId10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iki.tcl.tk/1611.html" TargetMode="External"/><Relationship Id="rId2" Type="http://schemas.openxmlformats.org/officeDocument/2006/relationships/hyperlink" Target="http://wiki.tcl.tk/vfs" TargetMode="External"/><Relationship Id="rId3" Type="http://schemas.openxmlformats.org/officeDocument/2006/relationships/hyperlink" Target="http://wiki.tcl.tk/vfs" TargetMode="External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l 8.4 Overview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 Black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Annual Tcl/Tk Con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eff Hob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le’ enhanc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rtual File Sy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hooks into all FS function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ll support for 64-bit file sizes on 32-bit operating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normal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separ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lin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test 2.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Greatly enhanced ‘test’ com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upports multiple error match 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uns multi-process for robust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100% backwards compatible with v1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rial Port Contro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config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rial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mod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ud,parity,data,stop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handshak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ype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queu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timeou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sec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tycontro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gnalMap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tystatu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xcha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harPair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pollinterva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sec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ysbuff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ze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configure -lasterr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4-bit “wide” integ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s int64 or long lo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completely transparent 32/64-bit barr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 wide(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tcl_platform(wordSiz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nary command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format wW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sca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ring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W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nged behavio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cop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respects encodings of its chann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ormat %l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likewise treat argument as wide inte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can %l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likewise no longer ignore the field width specif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urc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s the byte 0x1a (^Z) as an EOF char on all plat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ubs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reak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tinu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ring command substitution differen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cl_traceExe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cl_traceCompil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vailable with TCL_COMPILE_DEBUG bui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‘trace’ comma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a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and rename | dele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ecution enter | leave | enterstep | leavest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ble array | read | write | un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rem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and tracing now pos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ld style trace command deprec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rmalized ‘memory’ comma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ful for debugging memory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ires compilation with TCL_MEM_DEBU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a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in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onex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ta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d memory displ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k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dget styling support (TIP #4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widg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gnificant widget enhanc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d I18N and L10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oved XIM and IME su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ll ?-ni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new feature of 8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pinbo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uilds on the entry wi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ast, feature rich and effic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anedwind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art widget, part geometry mana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labelfr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eparate from frame to not bloat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labelframe" descr=""/>
          <p:cNvPicPr/>
          <p:nvPr/>
        </p:nvPicPr>
        <p:blipFill>
          <a:blip r:embed="rId1"/>
          <a:stretch/>
        </p:blipFill>
        <p:spPr>
          <a:xfrm>
            <a:off x="1143000" y="5257800"/>
            <a:ext cx="1393920" cy="1303200"/>
          </a:xfrm>
          <a:prstGeom prst="rect">
            <a:avLst/>
          </a:prstGeom>
          <a:ln w="0">
            <a:noFill/>
          </a:ln>
        </p:spPr>
      </p:pic>
      <p:pic>
        <p:nvPicPr>
          <p:cNvPr id="227" name="panedwindow" descr=""/>
          <p:cNvPicPr/>
          <p:nvPr/>
        </p:nvPicPr>
        <p:blipFill>
          <a:blip r:embed="rId2"/>
          <a:srcRect l="2608" t="37648" r="3123" b="13154"/>
          <a:stretch/>
        </p:blipFill>
        <p:spPr>
          <a:xfrm>
            <a:off x="6718320" y="3200400"/>
            <a:ext cx="2295360" cy="1709640"/>
          </a:xfrm>
          <a:prstGeom prst="rect">
            <a:avLst/>
          </a:prstGeom>
          <a:ln w="0">
            <a:noFill/>
          </a:ln>
        </p:spPr>
      </p:pic>
      <p:pic>
        <p:nvPicPr>
          <p:cNvPr id="228" name="spinbox" descr=""/>
          <p:cNvPicPr/>
          <p:nvPr/>
        </p:nvPicPr>
        <p:blipFill>
          <a:blip r:embed="rId3"/>
          <a:stretch/>
        </p:blipFill>
        <p:spPr>
          <a:xfrm>
            <a:off x="5562720" y="1905120"/>
            <a:ext cx="949320" cy="639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w Tk subcomman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pboard 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age in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hoto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ar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we can properly animate GIF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caret </a:t>
            </a: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?-x x? ?-y y? ?-height 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or controlling global car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lso directs placement of IME/XIM wind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windowing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o distinguish between Xlib and native Aqu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 time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s to 8.4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ext’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undo/redo support with ‘edit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undo, -autoseparators and -maxundo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’ takes multiple range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ete’ takes multiple range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omic dele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virtual ev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&lt;Selection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&lt;Modified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m’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 stack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ew/Control the stacking order of top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 attrib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controlling the platform specific aspects of top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ations for Mac and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get Unix features in the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ly: topmost functionality on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mpound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ow both image and text to be displayed simultaneous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ientation can be controlled with -compound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 for all button types and label widget, as well as in men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t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abledbackground –disabledforeground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ry -state readonly -readonlyback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ckbutton -compound -overreli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box -disabledforeground -state -activesty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enu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nubutton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diobutton -overreli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ymmetric padd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left/right or top/bottom asymmetry in padding (-padx -pad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es to widget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bel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geometry manager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 columnconfigu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ster inde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 rowconfigu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ster inde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k dialog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_getOpenFile -multiple -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_getSaveFile -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k_getOpenFi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k_getSaveFi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different in whether the returned file name includes the exten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moved Tk Privat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Pr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[A-Z]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with ::tk::Priv and tk::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for ‘exporting’ the private comm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don’t use them anyw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8.4 Change Detail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Wiki Changes in Tcl/Tk 8.4 p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wiki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tcl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6"/>
              </a:rPr>
              <a:t>tk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7"/>
              </a:rPr>
              <a:t>/3099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ocal mode wiki on the conference C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urce ChangeLo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8"/>
              </a:rPr>
              <a:t>http://www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9"/>
              </a:rPr>
              <a:t>tcl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0"/>
              </a:rPr>
              <a:t>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1"/>
              </a:rPr>
              <a:t>tk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2"/>
              </a:rPr>
              <a:t>/man/tcl8.4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Details in BoF l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Boo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8.4 Book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29415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ming soon to a store near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lch 4</a:t>
            </a:r>
            <a:r>
              <a:rPr b="0" lang="en-CA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lynt 2</a:t>
            </a:r>
            <a:r>
              <a:rPr b="0" lang="en-CA" sz="28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bookcover" descr=""/>
          <p:cNvPicPr/>
          <p:nvPr/>
        </p:nvPicPr>
        <p:blipFill>
          <a:blip r:embed="rId1"/>
          <a:stretch/>
        </p:blipFill>
        <p:spPr>
          <a:xfrm>
            <a:off x="3627360" y="990720"/>
            <a:ext cx="4830840" cy="5200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Where to get i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 Developer Xcha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Points to every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ww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ActiveT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Binary distributions with exten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ww.activestate.com/Products/ActiveTc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ourceFor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Core sourc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tcl.sourceforge.net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nference C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Tcl and Tclkit bina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&amp;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ur 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686800" y="257184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8656560" y="257184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 flipV="1">
            <a:off x="6883560" y="328284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3193920" y="3276360"/>
            <a:ext cx="0" cy="191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1828800" y="3276360"/>
            <a:ext cx="0" cy="86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6386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0020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000240" y="5189400"/>
            <a:ext cx="299088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6396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648240" y="105732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2443320" y="3265200"/>
            <a:ext cx="0" cy="193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5392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0036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16232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9680" y="3524400"/>
            <a:ext cx="9288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9068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95264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308240" y="3648240"/>
            <a:ext cx="98568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949480" y="3648240"/>
            <a:ext cx="100980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0328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714840" y="4019400"/>
            <a:ext cx="192384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514836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57880" y="18194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19880" y="480060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. ActiveTcl 8.3.4.3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77724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7848720" y="3276720"/>
            <a:ext cx="0" cy="704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899480" y="2052720"/>
            <a:ext cx="108252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.0 Se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452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3454560" y="4782960"/>
            <a:ext cx="433080" cy="417600"/>
            <a:chOff x="3454560" y="4782960"/>
            <a:chExt cx="433080" cy="417600"/>
          </a:xfrm>
        </p:grpSpPr>
        <p:sp>
          <p:nvSpPr>
            <p:cNvPr id="179" name=""/>
            <p:cNvSpPr/>
            <p:nvPr/>
          </p:nvSpPr>
          <p:spPr>
            <a:xfrm>
              <a:off x="3679560" y="49046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5896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355824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50676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50640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06400" y="4974480"/>
              <a:ext cx="31176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454560" y="4902840"/>
              <a:ext cx="433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8305920" y="283860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88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5357880" y="340056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962760" y="2971800"/>
            <a:ext cx="1886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96080" y="3981600"/>
            <a:ext cx="762120" cy="320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691320" y="259092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305920" y="24861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143760" y="3733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824440" y="414324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. ActiveState TclPro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1320" y="5505480"/>
            <a:ext cx="221148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. ActiveState Tcl Dev Kit 2.0 (Au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8153280" y="3276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977240" y="3505320"/>
            <a:ext cx="815760" cy="3492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8.4 Development: TIP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ver 2 years in the ma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irst time the TIP process has defined a Tcl release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www.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tk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/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6"/>
              </a:rPr>
              <a:t>cgi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7"/>
              </a:rPr>
              <a:t>-bin/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8"/>
              </a:rPr>
              <a:t>tct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9"/>
              </a:rPr>
              <a:t>/tip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nitially rough, but process has impro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f the 100+ TIPs, most targeted 8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ny thanks to the maintainers and contribu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5+% improved performance over 8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wiki.tcl.tk/1611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ly new Virtual File System (VF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http://wiki.tcl.tk/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v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ments to numerous comm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4-bit integer and file system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ification of the C AP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urce incompatible – with a compatability #def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nor command enhanc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stat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nam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rrayName ?mo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patt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p recursionlim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sub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switch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xp string subSpec ?var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set ?-nocomplain? ?..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nam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 ‘eq’ and ‘ne’ for true string comparis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 -tail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atter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space ex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 scrip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file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list comman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</a:t>
            </a: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ls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m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fficient way to replace e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linde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ist ?index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x into nested lists easi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lsearc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all -ascii -decreasing -dictionar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increasing -inline -integer -not -rea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sorted -st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ndreask</cp:lastModifiedBy>
  <cp:lastPrinted>1999-01-02T23:07:33Z</cp:lastPrinted>
  <dcterms:modified xsi:type="dcterms:W3CDTF">2002-09-11T16:00:26Z</dcterms:modified>
  <cp:revision>416</cp:revision>
  <dc:subject/>
  <dc:title>8.4 Tcl Overview</dc:title>
</cp:coreProperties>
</file>