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40377"/>
        <c:axId val="33920573"/>
      </c:barChart>
      <c:catAx>
        <c:axId val="33340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20573"/>
        <c:crosses val="autoZero"/>
        <c:auto val="1"/>
        <c:lblAlgn val="ctr"/>
        <c:lblOffset val="100"/>
        <c:noMultiLvlLbl val="0"/>
      </c:catAx>
      <c:valAx>
        <c:axId val="33920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40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A08-1307-498F-B195-52B2954E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DBF-600D-40DF-8C24-5DF60310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E32-BB24-4166-82E2-39B63990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C00-73D0-4656-81AB-8A29977E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B53-96DD-4693-AA24-533B2738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29A-C85C-4AE0-8C2F-05AE09F7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76C-A1FC-4B5E-BA22-3B484F87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305-B96F-49C7-92D9-987D50BF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460-4DBD-448C-BA7E-2A0E9B0F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A29-0CF0-4BCB-8F00-72A69A00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E18-6741-42B9-B42F-EB24FFC1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32A-7107-4FF2-A7A0-5F6C9FDF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83D31-AE43-4C3F-AC67-15549B44E2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