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277804"/>
        <c:axId val="28895980"/>
      </c:barChart>
      <c:catAx>
        <c:axId val="51277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95980"/>
        <c:crosses val="autoZero"/>
        <c:auto val="1"/>
        <c:lblAlgn val="ctr"/>
        <c:lblOffset val="100"/>
        <c:noMultiLvlLbl val="0"/>
      </c:catAx>
      <c:valAx>
        <c:axId val="28895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277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285E-8BFE-452C-A081-BE5E96820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ED5-4955-46A9-AD6D-B2800EFD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66C-EDA7-4CD9-A948-B4457BCE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A08-46C9-4255-A7BA-250F8EAA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8393-2ECE-4E3F-8378-309EC0E0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DB9-7B13-43E0-BC4A-B83C005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05B-6B55-4DD5-8071-D709938B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9E04-9DC0-4B41-9402-0EE73516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142-FB52-4ED2-ABEE-CAFA42EF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335-9093-4CA6-8480-C947752A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9721-4C95-45AF-B254-927E27B3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2F6-6C41-4F76-91E2-20B21BA5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07004-1304-4BA7-814A-700D077BEE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