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610901"/>
        <c:axId val="52067109"/>
      </c:barChart>
      <c:catAx>
        <c:axId val="406109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67109"/>
        <c:crosses val="autoZero"/>
        <c:auto val="1"/>
        <c:lblAlgn val="ctr"/>
        <c:lblOffset val="100"/>
        <c:noMultiLvlLbl val="0"/>
      </c:catAx>
      <c:valAx>
        <c:axId val="52067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109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1B20-D061-4A9B-897F-80A9CB12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717-7332-48CB-96C0-0F0571E3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AFE-CAC5-470F-9DEB-F7E8D7B8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0B9-70C0-4B01-BB76-C890DCAB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7C0-BD5B-437F-AF6D-81D3EEEA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4EB4-E4CB-4458-8C6A-3E5275E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B5D5-AC6C-40F3-93E7-FF351B808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D2E-F25F-43E8-85A5-CD1ECCE9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C9E7-DD62-4390-92E6-088FEB27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D9B8-E930-40BD-BF59-84BC69A3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CD5F-D7CD-40F9-A492-B673404C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6FE1-0B4F-4EB5-9652-28B709AD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3B8C5-4F7A-472F-B623-983FD93C24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