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0973"/>
        <c:axId val="16772148"/>
      </c:barChart>
      <c:catAx>
        <c:axId val="4340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772148"/>
        <c:crosses val="autoZero"/>
        <c:auto val="1"/>
        <c:lblAlgn val="ctr"/>
        <c:lblOffset val="100"/>
        <c:noMultiLvlLbl val="0"/>
      </c:catAx>
      <c:valAx>
        <c:axId val="16772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0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20D-BACA-453E-82E2-2C6AC45D2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E211-31A0-468B-B735-FB9F33E4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D26-9D3F-4008-8C55-7CCE79D2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9FA-6C85-44B5-B67A-F8DB44D74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A68-7EB6-4EF4-969B-E15FA345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1EC8-3E34-4D3F-A2A2-C86FF2E6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CE7-F7AA-407C-95E1-7EF9B872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7E3E-897C-4F26-929A-8D6024B8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046-C938-42A9-9612-7063787E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9C7-DEB2-45B2-A1E6-BDC20714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A329-32E7-44C6-BFB9-4C81E5A7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CB8-FC5A-4F11-BA49-F378A45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71686-6505-4A9A-8E21-3356A003E9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