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40769"/>
        <c:axId val="51130649"/>
      </c:barChart>
      <c:catAx>
        <c:axId val="220407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30649"/>
        <c:crosses val="autoZero"/>
        <c:auto val="1"/>
        <c:lblAlgn val="ctr"/>
        <c:lblOffset val="100"/>
        <c:noMultiLvlLbl val="0"/>
      </c:catAx>
      <c:valAx>
        <c:axId val="511306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407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8875-5AE1-4FD8-A45C-27476DA4A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408-4149-46DE-81DD-5214CE64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14E-66A1-43F7-A3C3-476191ECE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5473-3664-4F96-B183-65AB089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1E4-3D06-4C63-9206-07338767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3A2-7567-457C-8C4F-6F72A51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47F5-74BF-4C56-977B-439FED1D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AE4-C16E-472D-B199-7A1F208A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25A5-379B-4962-A20A-58537237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7ECD-818E-4139-9933-12DFDDF2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998-4EE5-4E95-AF8F-88A3A3DD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455-1513-4B98-BA97-6108FC6B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C330E3-73AF-43C5-979A-9678F0D1E5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