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721630"/>
        <c:axId val="4319128"/>
      </c:barChart>
      <c:catAx>
        <c:axId val="22721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9128"/>
        <c:crosses val="autoZero"/>
        <c:auto val="1"/>
        <c:lblAlgn val="ctr"/>
        <c:lblOffset val="100"/>
        <c:noMultiLvlLbl val="0"/>
      </c:catAx>
      <c:valAx>
        <c:axId val="43191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21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C90-9D56-4E70-8108-BBB4E039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722-EB38-4D4C-9253-47C5781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C19-CEF9-445E-92D4-A1707A67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09B-82B6-4D7D-BD03-2CF9DEB4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D40E-E8D9-42AC-9E44-4C9CC303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6142-F244-4852-A29B-8158FB85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7F3-902E-4A3B-BA72-8A5A2737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3BDC-65FC-4343-AD11-C448C96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9C0F-DE79-45A7-BEDF-C027174D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DA1-DFFB-4179-8578-6C1228FF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57BF-F219-400D-A81B-8377228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5F9-607A-442B-9911-21D7E9C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E4BB4-8B54-4D9B-95B6-425DDFF4F0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