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60946"/>
        <c:axId val="34471341"/>
      </c:barChart>
      <c:catAx>
        <c:axId val="603609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71341"/>
        <c:crosses val="autoZero"/>
        <c:auto val="1"/>
        <c:lblAlgn val="ctr"/>
        <c:lblOffset val="100"/>
        <c:noMultiLvlLbl val="0"/>
      </c:catAx>
      <c:valAx>
        <c:axId val="344713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609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E1DC-14FA-4AAA-87AF-CF5253A0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31F6-2F2E-40B1-9104-45491A39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0BB-2627-4FAC-AB29-6A3A890F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08D6-3607-40E5-A641-63F62A2F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0BA8-FBA9-4EE6-B0D3-2E395222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73FD-77F4-47A8-B9D8-C5B0E85C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B1C4-FBB8-4E49-91CB-8BB57E96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A8FB-CA23-42CF-BCAD-4FA352AD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40A8-E22F-4C0E-A5C5-47B42A73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F880-004E-4F67-B47B-083F3248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AFA8-C995-4E83-9A07-F2ED00E9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672E-72F4-4E23-8A89-97D77EFF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1E5BA-BFBC-4496-BD10-562B21868B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