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33822"/>
        <c:axId val="4389476"/>
      </c:barChart>
      <c:catAx>
        <c:axId val="38633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476"/>
        <c:crosses val="autoZero"/>
        <c:auto val="1"/>
        <c:lblAlgn val="ctr"/>
        <c:lblOffset val="100"/>
        <c:noMultiLvlLbl val="0"/>
      </c:catAx>
      <c:valAx>
        <c:axId val="4389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33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0F1-A1C5-4484-BE13-398F79DE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6C0-70F7-418E-96F2-ADCC00B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312-D4B6-412C-AE52-5CA989CC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8AB-62A6-424E-AF37-F9D3004E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48D-0515-4885-8672-38477EB0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BC0-7854-4B56-AF4B-F7290D7A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F5C-C997-4A74-AECA-5DBA232C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A39-BDC4-42CB-8960-4B83606F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318-EB8D-42F0-B1C4-82D6376A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ED5-3D7F-41E7-9AE2-49703C0E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2B2-28DC-47D9-8C23-675CC516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ABB-511E-47B6-A820-9B628BA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B5A2F-6603-4FA8-9A93-082B19D005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