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43103"/>
        <c:axId val="99668780"/>
      </c:barChart>
      <c:catAx>
        <c:axId val="67443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68780"/>
        <c:crosses val="autoZero"/>
        <c:auto val="1"/>
        <c:lblAlgn val="ctr"/>
        <c:lblOffset val="100"/>
        <c:noMultiLvlLbl val="0"/>
      </c:catAx>
      <c:valAx>
        <c:axId val="99668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43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AFB-9FAE-45A7-9278-A2CE05A6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608-1A3B-4E23-AC5A-CC44BFB06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FD24-BB30-4225-97BA-F0C49FCED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E25-988D-4CF0-BB04-1A4DF65F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AD9-657D-4967-A013-FED4CFE6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678-D353-476F-BA31-F44EF5A2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A55-6F47-40B5-9A8C-2ED469A4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4989-6C72-4E94-BA77-4F3D5C29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28A0-B47E-43C5-BE4D-D31E53F8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B68-CEC5-4EE0-A485-3622A6C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757-4F7E-421A-A529-9B476204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FED-10EC-44CF-958E-EC608DAC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FF323B-903D-45D6-B300-C612115429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