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797838"/>
        <c:axId val="30464785"/>
      </c:barChart>
      <c:catAx>
        <c:axId val="917978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64785"/>
        <c:crosses val="autoZero"/>
        <c:auto val="1"/>
        <c:lblAlgn val="ctr"/>
        <c:lblOffset val="100"/>
        <c:noMultiLvlLbl val="0"/>
      </c:catAx>
      <c:valAx>
        <c:axId val="304647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978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722C-4C1A-4A74-9EF8-8919A7B58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0F36-882F-454F-8351-AD30793E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4F44-8794-4A31-A726-452ABE38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2711-CE45-47D0-B886-D2C03EBE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5F49-2759-4F88-920C-61B99F70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6F1D-3E4A-479A-956A-1A2AB86D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F6AE-E0E9-463D-967F-A5C83149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F680-FC34-4EA5-98DF-F558E802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CDE9-C569-44CF-9CD3-0C04DF71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8D22-D152-4C7D-9C31-D33FACCF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E6E7-A759-4347-B142-D4BB2B24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58CB-3A34-4036-A2C2-29004227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973D6-6F5B-4218-9F2F-8E8497D4A9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