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18506"/>
        <c:axId val="60163534"/>
      </c:barChart>
      <c:catAx>
        <c:axId val="51185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163534"/>
        <c:crosses val="autoZero"/>
        <c:auto val="1"/>
        <c:lblAlgn val="ctr"/>
        <c:lblOffset val="100"/>
        <c:noMultiLvlLbl val="0"/>
      </c:catAx>
      <c:valAx>
        <c:axId val="601635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185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89A2-B289-4B1A-A279-5EE54BEB1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6E33-5230-4F70-8B1C-C19F1340D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95C1-81D2-49DC-BEA6-7F38E8675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707E-35AB-46CF-B292-BE7E9BF67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E3FA-74EB-488F-A7F1-AAF0409F7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534C-DF5A-4B77-9D17-ADA6418A1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AD1B-A875-4E98-A654-2486E4C5D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9588-C0D3-49D0-9878-27A0FCD73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CB1A-B756-4862-A703-065BB0A39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A4A8-25FB-4BAB-A632-C881CBFF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F300-7DA4-4394-B6F9-163149AD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76D4-0828-4D70-8D71-0905EBBD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5DC7E3-D3A6-4FE2-BE11-718A317F658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