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07369"/>
        <c:axId val="10113612"/>
      </c:barChart>
      <c:catAx>
        <c:axId val="48907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13612"/>
        <c:crosses val="autoZero"/>
        <c:auto val="1"/>
        <c:lblAlgn val="ctr"/>
        <c:lblOffset val="100"/>
        <c:noMultiLvlLbl val="0"/>
      </c:catAx>
      <c:valAx>
        <c:axId val="101136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07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9CA-2A66-40AE-8ED4-34C0446C6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79A-AA7C-45DB-8554-D6162759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B11-A94B-4C82-96A6-FE1CECCCE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B5C-B86A-4B0E-A41C-A80A9030B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E6A0-8673-4BF1-9039-D848D8831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BE2E-20AC-4B87-8D58-C06CB16B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578-4021-4691-B132-EF53B90C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C95-A560-4506-B867-134C8D42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F9F-56FD-48D6-BA04-EE64910E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6001-868F-4978-8A32-C1D7026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1470-B1D2-4E50-90E2-D22F73EA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2B7-C327-4105-A560-D1186CA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6DFE4-6943-4F24-A87B-2B7661714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