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741364"/>
        <c:axId val="78040462"/>
      </c:barChart>
      <c:catAx>
        <c:axId val="947413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040462"/>
        <c:crosses val="autoZero"/>
        <c:auto val="1"/>
        <c:lblAlgn val="ctr"/>
        <c:lblOffset val="100"/>
        <c:noMultiLvlLbl val="0"/>
      </c:catAx>
      <c:valAx>
        <c:axId val="780404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413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4BB5-E224-43D0-9270-C4C3EAFF8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14B3-7808-4ECC-A44A-CA03BF73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9DD4-6898-41A8-88A2-AB57BAD99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7F4B-B356-48D7-8C9C-93D67E942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30B1-9753-4B4E-A5DF-AF9962D0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352C-888D-46F0-8C3C-669F369B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EEAB-CFBE-4255-9922-244AA518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FCDC-BDCF-4237-9666-9B55BE3B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ABB4-8A64-4FA5-8DD3-8C7E5A75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44BC-AA78-43BA-8CB8-52D88EF5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0E5C-39A8-493C-B9F3-E827FB57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AC0C-68A1-47EC-B7BC-52F83400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BAF01-0BD1-491A-A2B4-D2746E696D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