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28513"/>
        <c:axId val="67862918"/>
      </c:barChart>
      <c:catAx>
        <c:axId val="33128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62918"/>
        <c:crosses val="autoZero"/>
        <c:auto val="1"/>
        <c:lblAlgn val="ctr"/>
        <c:lblOffset val="100"/>
        <c:noMultiLvlLbl val="0"/>
      </c:catAx>
      <c:valAx>
        <c:axId val="67862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28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1C1C-36D2-4552-8737-D480767E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CA49-2A85-4148-A7E4-75A5F57E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755-D028-4689-9722-4F3B868D0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C90-7C4A-48B3-A8B9-849CCF10B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8D31-0595-491C-8432-27890481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894C-1A3B-420B-A512-5ABBA9DB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85A-9D5C-46D7-BE65-947B6F82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765-3462-4E22-85EE-48ACFD54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779-48C3-415E-8DCE-1BA554E7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55A-986F-4D2C-B5E5-79762F8C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0770-ACDC-47C7-93F6-08BAB830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077-9F8B-44A6-B166-ACC6AE4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767937-C024-47BE-A712-7019D1EDF0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