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61362"/>
        <c:axId val="97077172"/>
      </c:barChart>
      <c:catAx>
        <c:axId val="315613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077172"/>
        <c:crosses val="autoZero"/>
        <c:auto val="1"/>
        <c:lblAlgn val="ctr"/>
        <c:lblOffset val="100"/>
        <c:noMultiLvlLbl val="0"/>
      </c:catAx>
      <c:valAx>
        <c:axId val="97077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613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711C-3F3A-4BBA-87FF-289D4457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3898-1B50-468F-9FD4-24581D14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E81F-8173-4979-8EDB-7A6873557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407-2E95-4EAE-AF28-ABE6C7B9D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593-5BC5-4295-B808-BBEEDFCC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222-2BE9-4613-8CF5-374424BE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88A-EB27-4653-A0EE-1B978671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C268-DE3F-408D-984D-CE39F38A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551-4240-49EE-9A03-97A24409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8C28-862F-45BE-9CC6-243F52A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5EB-1A08-4AA5-B264-096A3772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9F1-AB09-4FAF-BFE1-FC90DB20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4E3F3-A468-4ECD-A5AB-C047E37F0A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