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641969"/>
        <c:axId val="82351467"/>
      </c:barChart>
      <c:catAx>
        <c:axId val="926419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351467"/>
        <c:crosses val="autoZero"/>
        <c:auto val="1"/>
        <c:lblAlgn val="ctr"/>
        <c:lblOffset val="100"/>
        <c:noMultiLvlLbl val="0"/>
      </c:catAx>
      <c:valAx>
        <c:axId val="823514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6419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317B-728E-4C89-97A2-34C251C6C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1ED9-7CCC-41F3-939F-242766B7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EDE6-3097-4306-BFF4-CD4BB9031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6407-D08A-4C92-BC93-5FC856625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7F46-EE12-4093-B5E7-27BA98E0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3C98-F708-47C8-AE42-487E171F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86DB-118D-4F19-A6F7-0574D885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BEB5-B344-4569-9C6F-130CC90C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FC35-8694-4C8C-9B79-D663298E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552F-5827-4D21-9FD8-94A412DD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F670-3BBE-454B-AE6D-C2B7041E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32F9-ACDD-48E1-8234-8501F83C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543BE-712C-4453-B913-4ACC777303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