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69769"/>
        <c:axId val="70891687"/>
      </c:barChart>
      <c:catAx>
        <c:axId val="73669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91687"/>
        <c:crosses val="autoZero"/>
        <c:auto val="1"/>
        <c:lblAlgn val="ctr"/>
        <c:lblOffset val="100"/>
        <c:noMultiLvlLbl val="0"/>
      </c:catAx>
      <c:valAx>
        <c:axId val="70891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69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1CF-94E9-4385-B2FE-2F57ACE8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3B6-2D17-40F5-8543-8F6CE3F2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FAB-D664-42C7-936F-55088A9E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0FF-84F5-45F7-9E8E-9C7ED0D8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F31-D05F-429B-BB2E-96D3F9EC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625-1690-4895-B004-93182EA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04C-8F84-4950-9B13-0EAA93ED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C2A-A14F-43BF-BCCC-9C907ADE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C96-BF3F-48E6-AD84-47B1DA1A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022-AED8-4605-BC63-67821C9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418-39C9-4630-AE41-656938D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9CD-85B3-4E06-9BE0-50B0812A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CA0CB-A741-4B21-836A-7530BA05A6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