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914173"/>
        <c:axId val="4105968"/>
      </c:barChart>
      <c:catAx>
        <c:axId val="419141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05968"/>
        <c:crosses val="autoZero"/>
        <c:auto val="1"/>
        <c:lblAlgn val="ctr"/>
        <c:lblOffset val="100"/>
        <c:noMultiLvlLbl val="0"/>
      </c:catAx>
      <c:valAx>
        <c:axId val="41059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9141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D132-046E-4F8C-B2E8-7C120BFB4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B9A9-869D-4699-9952-D8744E00B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87E6-E54D-486F-BE86-A28320915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2EA1-94B2-4610-A02D-7DA654BD4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3DA3-78A6-47D6-8DBC-6350793B7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41A6-D0BF-4669-9AF6-097CCA222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3970-8424-418B-A11A-AFBC2F73A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059C-A22D-4878-A8E4-165D1941C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46B5-A84E-4A2F-A85C-38FE225FE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7947-6ACA-4544-9C67-CCBCFFE1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B3BB-ED78-4184-AE16-236645C3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5000-1A9D-4913-AF52-F9B8BEE2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39394A-C1D0-41B0-BE85-DBCE86F1696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