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50323"/>
        <c:axId val="90303423"/>
      </c:barChart>
      <c:catAx>
        <c:axId val="94550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03423"/>
        <c:crosses val="autoZero"/>
        <c:auto val="1"/>
        <c:lblAlgn val="ctr"/>
        <c:lblOffset val="100"/>
        <c:noMultiLvlLbl val="0"/>
      </c:catAx>
      <c:valAx>
        <c:axId val="90303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50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55A-A999-4952-983C-942D4EC7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C0A-4C33-41B8-B078-0CDF8607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40E-36C1-41E3-A478-54DA54C2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215-1344-448F-9583-56EFC1CF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DC5-56A3-4E1F-BD88-ACEB3C88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F2A-C3F0-45CB-B344-82EB6647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E86-C9F4-45F8-BA6E-E2620B57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CA4-F848-4FFA-BC58-366A0F1F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767-F4B7-479C-AA7A-445EEAFB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948-B4EC-499A-8E4D-FC366CD9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A9D-70B4-4F28-B7FF-9C8B773A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0D5-EF9E-43A1-845D-07A67DD4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D51E1-5267-402B-9FBB-D8CFBA2A91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