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64450"/>
        <c:axId val="86847410"/>
      </c:barChart>
      <c:catAx>
        <c:axId val="45664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47410"/>
        <c:crosses val="autoZero"/>
        <c:auto val="1"/>
        <c:lblAlgn val="ctr"/>
        <c:lblOffset val="100"/>
        <c:noMultiLvlLbl val="0"/>
      </c:catAx>
      <c:valAx>
        <c:axId val="86847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64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003-1AA5-4323-A100-F6DB951F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CBD-D247-4DE0-A39B-45BC6994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2E5-6A1F-4648-A37B-1E337726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8DF-61EF-45D6-9B45-855A9599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8EF-EF1B-467D-92EB-4CACC62D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6A6-C012-4C6A-A8AB-D567144D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5C8-67F8-4CBA-9CC8-9145A3DB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6E2-E0BC-4AB8-9190-AAFA3EC4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962-C20B-4584-B1DE-7C004E7B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667-C95E-4D41-B604-BAD1F56D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5ED-9E54-45AF-8192-C1812CDD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FDF-02AE-4B5D-AB03-A49EAB0B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F383C-C01C-4B01-AD36-73F0F57564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