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35573"/>
        <c:axId val="1937452"/>
      </c:barChart>
      <c:catAx>
        <c:axId val="80735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7452"/>
        <c:crosses val="autoZero"/>
        <c:auto val="1"/>
        <c:lblAlgn val="ctr"/>
        <c:lblOffset val="100"/>
        <c:noMultiLvlLbl val="0"/>
      </c:catAx>
      <c:valAx>
        <c:axId val="1937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35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285-B87B-4BF7-B7CD-323447CF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662-42B1-43B5-BC75-2EFBD2F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3E3-60E3-4A45-AF80-EF476CDB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F12-5892-4B8B-9810-94721665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466-B830-4881-804D-D980C911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905-F1F4-456D-B666-7193B3E0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7A5-23F0-4E27-A009-BE6319BB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759-E9D3-46CB-BB69-83B76E89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FA1-2A59-4C6C-B044-17B7E09B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EEE-B01B-4415-87B4-A571519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022-9FDE-42BB-B33D-92920DA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5BC-70E6-449B-B2F8-74E68A2F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48008-99A8-4B58-ABE0-5A4278DA7A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