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32146"/>
        <c:axId val="306563"/>
      </c:barChart>
      <c:catAx>
        <c:axId val="65132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563"/>
        <c:crosses val="autoZero"/>
        <c:auto val="1"/>
        <c:lblAlgn val="ctr"/>
        <c:lblOffset val="100"/>
        <c:noMultiLvlLbl val="0"/>
      </c:catAx>
      <c:valAx>
        <c:axId val="3065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32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1F3B-1A59-408B-8BCF-9779B038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05A-FC4B-4B37-A790-94F30A84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3940-F49E-41E4-9E30-682E68A37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82A4-7694-4239-9629-E711DDEF9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B7C3-1B14-4F11-B9B3-5255256A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D11-FC18-4B32-BF57-1F2A6BF8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C375-AB3C-4352-A2BA-78873C9C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25F6-8ECF-4B77-ADA1-23E486B3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AEDB-A030-4411-99B8-126D8CA6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63F-64BF-47FC-BE51-9D2F0A7F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7D46-8734-41BE-98A2-B6E14E5F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261-4F93-40BD-A8D2-AF28E478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FAD34-D08F-4EE1-A507-F6E3019F33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