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83906"/>
        <c:axId val="41721994"/>
      </c:barChart>
      <c:catAx>
        <c:axId val="35283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21994"/>
        <c:crosses val="autoZero"/>
        <c:auto val="1"/>
        <c:lblAlgn val="ctr"/>
        <c:lblOffset val="100"/>
        <c:noMultiLvlLbl val="0"/>
      </c:catAx>
      <c:valAx>
        <c:axId val="417219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83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9CF1-05FB-45A1-8B17-463E3BF2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75A-F915-4BEC-9319-C8202698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CC4-ADE9-45FE-B610-5D66962C0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3D13-437A-430D-B53F-B3352545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FA8-7991-41F6-95E9-0CF409B3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B4C9-52CD-4501-89F6-AA040991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E5BB-D6E9-46C6-A219-40BC87DF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3EF-181E-4200-8C31-3A8BA5DE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BCAD-9EC3-4A5E-AC60-9EAEC939A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9A0-8BEA-4808-82B8-B99AF36E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1F51-2A6D-4707-AF74-FF079333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E2C-D726-4FF3-8F34-F5AAE98C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E6ED3-311B-469A-9512-2383B603E9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