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496"/>
        <c:axId val="89611281"/>
      </c:barChart>
      <c:catAx>
        <c:axId val="9104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11281"/>
        <c:crosses val="autoZero"/>
        <c:auto val="1"/>
        <c:lblAlgn val="ctr"/>
        <c:lblOffset val="100"/>
        <c:noMultiLvlLbl val="0"/>
      </c:catAx>
      <c:valAx>
        <c:axId val="89611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4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E97-7ACA-4FB9-AA55-87996EBB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906-0E14-4BC1-90CD-2F135D2B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1056-B62C-450D-91DC-A623C0B0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CCF-2195-459E-86C6-F63E56A6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F71-1EFB-457D-B49A-A421A243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79C-FD1E-4364-9376-EC9A9512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914-B801-4E1D-9DD1-8E453421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F21-619E-4288-8FC5-BA16FBB2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A38-BFC0-4D4F-B36A-AE7EA346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BE5-4FF9-45A1-B39A-4DA24F9A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C41A-AAFA-4F6D-896C-C7934AB9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BBB-C67A-4A0E-8338-CC82AAD5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15F50-6E7B-4B3E-B90E-01EAF3107F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