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15838"/>
        <c:axId val="51711452"/>
      </c:barChart>
      <c:catAx>
        <c:axId val="55615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11452"/>
        <c:crosses val="autoZero"/>
        <c:auto val="1"/>
        <c:lblAlgn val="ctr"/>
        <c:lblOffset val="100"/>
        <c:noMultiLvlLbl val="0"/>
      </c:catAx>
      <c:valAx>
        <c:axId val="517114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15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202-0C2C-4351-89F1-0ADD4E0C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EB9-EBA4-4089-8567-08642603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E9E-020A-466D-BC4D-EECEA169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9432-AAED-42C4-AAEB-FCD3036D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F8D-0FFE-45FC-9755-A8C5B7EB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C9F-4E79-4B7D-9BBE-EC9EFEC0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87E-8831-43A0-AC1D-8C166F90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039F-F912-4725-97A5-ED70F3B5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8EC4-F868-48F4-9E24-3298249E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7C7-B355-4DE0-B89A-31A28931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164-AE8F-49F2-AC9A-D16AB3C6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69C5-137D-49D7-9002-7DE3064E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4B98F-BC3E-433C-BA5D-EFCC3F7736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