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6326"/>
        <c:axId val="13954279"/>
      </c:barChart>
      <c:catAx>
        <c:axId val="4986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54279"/>
        <c:crosses val="autoZero"/>
        <c:auto val="1"/>
        <c:lblAlgn val="ctr"/>
        <c:lblOffset val="100"/>
        <c:noMultiLvlLbl val="0"/>
      </c:catAx>
      <c:valAx>
        <c:axId val="13954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6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F87-5404-4A94-AB5E-53A9B3A1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6B8-D8DC-4B39-9C09-2E181609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107-57E5-4B45-B117-4BC49C4F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EDD-C811-4920-99D3-0FD429C9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956-8D97-43A0-B0DA-BA5D80E5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06F-AB8D-433E-A67B-D48C9671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984-F16B-4DF3-B9CE-78E32F93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0FC-7944-48DC-A0DC-0B86A45E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7BD-A41D-4E17-828A-5E448E64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10D-6508-427C-8B53-EA0A153F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710-9A05-4ECC-B249-34F92303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003-B30F-4D42-B882-53B80E56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32C0D-3015-4AA8-9715-75E1DFB933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