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877219"/>
        <c:axId val="60896546"/>
      </c:barChart>
      <c:catAx>
        <c:axId val="278772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96546"/>
        <c:crosses val="autoZero"/>
        <c:auto val="1"/>
        <c:lblAlgn val="ctr"/>
        <c:lblOffset val="100"/>
        <c:noMultiLvlLbl val="0"/>
      </c:catAx>
      <c:valAx>
        <c:axId val="60896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772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641D-AFF2-4AC3-9BE9-FA9D6E2B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AC51-F00D-4640-83E3-395E54A8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677-9468-4AB2-A315-053F1F187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D12E-556C-4C45-8173-81DC0FB4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978-DCD4-4735-81D2-8B079174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6B4F-17EF-43C6-AD30-9024883ED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F10A-74D6-442F-AD11-ED181330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D496-053D-4B29-B3B5-4693CD4FE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E91-AA0E-4C0C-8BC7-2DD0EAF0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F929-D19E-4403-AAD5-1E13620F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1BA6-810B-4F56-9ECF-D804EFD9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976A-1E6C-49CB-A31C-50F76AA8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26875-7378-4222-9B39-B51EA3E6C2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