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55011"/>
        <c:axId val="73571452"/>
      </c:barChart>
      <c:catAx>
        <c:axId val="52855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71452"/>
        <c:crosses val="autoZero"/>
        <c:auto val="1"/>
        <c:lblAlgn val="ctr"/>
        <c:lblOffset val="100"/>
        <c:noMultiLvlLbl val="0"/>
      </c:catAx>
      <c:valAx>
        <c:axId val="73571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55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61F9-A03A-4A38-8226-287A621D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3C6-2429-4531-9548-6F5AC38E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255-360B-4D62-83BB-AF7FC362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041-B4E4-4846-B045-C58EF846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BB2-D8CB-48B7-8A6D-C7C7519D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C81-415C-4EE8-AE64-6ED0A162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0302-0CD4-4105-AC69-7527D4FC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C9C-32CD-4894-AC3D-A05A57CF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675-2057-49A1-A7BA-1B3042F6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EC1-257D-497A-80D0-1824DB37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DA5-913D-437F-8163-9308006F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12E-1B5A-4BBE-A03A-DAC3FDA1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0C8E9-8AAC-4BC6-AC1F-A7AB3F3B3E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